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chimes.wav" ContentType="audio/x-wav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42.jpeg" ContentType="image/jpeg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9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270-04E6-489B-B04C-3AA7D69B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DE4-6190-44D1-A9D6-D2CF1BFF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DC2-0CD5-44D7-9BFC-327EF385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93F-2B3A-4E8A-9E9B-90302C7F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50F-1B64-4F59-8F2B-DA32BCBD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9494-454D-4AEC-9467-3A89E2B5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C186-437B-40E7-AE1E-B807D2A0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8B23-D5B7-4A8F-9821-66DACA23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858A-CFBB-4471-AFD0-07E2F63B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C309-CE85-41D7-93D0-94F473DC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828-CA8C-49D7-9BB8-6976CE7B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73A-6889-488B-83F3-A0E8DCA2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342F-BAD1-4226-B17F-FD4325FB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61EA-5F49-4BE6-8B9A-5B392B68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FA42-B570-482B-A25B-4D4A2EC3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A4BD-8458-4B27-9B72-D5949BEE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CAE2-FBB9-4762-AE33-F39A18F3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C54C-6941-41DF-8372-611F3F69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AC55-CFBD-4EE6-BD61-4D45DDA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4FB2-1D9A-48BE-8DF9-729EAA0F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F019-360C-43BF-A55C-4C2949AC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95B7C-469D-41DC-8F67-826BABF1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353-9178-4DBB-837D-C7583101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E190-5878-4028-8F0C-1801086E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C1DC-3CAB-4A1B-8202-04F76384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8179-26E3-498C-9300-2671AE47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1521-28F7-4A45-8426-1D67BAE7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DAA1-186F-4B87-BB0A-433474C1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FC26-1657-496C-98EB-EF29890F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000B-29A7-45F7-AFC8-6602FF74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60BF-0212-491A-8901-11B10191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3521-7E2E-4D4A-9C12-803A0876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5DA1-ACFF-47C2-A268-30F2D698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759-9BC8-4876-86EF-ED02A69A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C6F63-8398-4CF5-BE68-54505AB4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EEAD-051B-483B-8D45-DD00F486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902E2-D91C-4A14-A131-19C4017B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B4E46-DBE2-4A4A-AD93-DBC14D38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5642A-C807-49AE-B28E-01398E3F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3C729-E9F7-4C75-ABA9-E036C879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4E58D-3E42-4D5D-80AA-5B537B47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2BED-77AB-4581-8B69-822D7676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0CF9-192C-4C71-8C2C-E325B38A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24D5F-1160-4699-85D5-CE6CF0AE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89E-91FC-4A43-ACB3-47BF60AF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B072-D204-4764-9D88-9580987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53483-55E6-422D-A837-7E5DBE56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23B5-C8C9-4B41-A752-1C48962B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DE8C-3038-4399-A217-2C91DD5B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8CC38-1E6E-4017-BC29-F73BFA34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0F6AB-6AC8-467E-88F3-22EC8297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C8197-ACDA-434A-BF69-93B5C08F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7B0D-9A2C-49B4-B7FB-A1F8639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3F7AB-AD31-4AC5-8BA1-C7EBBC72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05F1-ECFB-4684-A8C2-FB1EF72C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999-CFE7-4DEA-B706-99F745F7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53C44-88AB-4F86-BABC-A084CD10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17B-3452-469E-B923-67640BE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933-7F75-4BD8-8B18-4F0A0EE3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90E-1B5B-44EA-BB7F-2D0AEB47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9991-D324-4715-BD57-2905B6073B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4472-43E1-43F2-AA8C-56838C532D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A1FB-BAF5-439E-888D-8FAC88F421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6293-AA6B-492A-9EB1-0D057DFA1C6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F89D-C23E-48AA-BF9B-92AD887697D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image" Target="../media/image33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33.png"/><Relationship Id="rId21" Type="http://schemas.openxmlformats.org/officeDocument/2006/relationships/image" Target="../media/image33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image" Target="../media/image33.png"/><Relationship Id="rId25" Type="http://schemas.openxmlformats.org/officeDocument/2006/relationships/image" Target="../media/image33.png"/><Relationship Id="rId26" Type="http://schemas.openxmlformats.org/officeDocument/2006/relationships/image" Target="../media/image33.png"/><Relationship Id="rId27" Type="http://schemas.openxmlformats.org/officeDocument/2006/relationships/image" Target="../media/image33.png"/><Relationship Id="rId28" Type="http://schemas.openxmlformats.org/officeDocument/2006/relationships/image" Target="../media/image33.png"/><Relationship Id="rId29" Type="http://schemas.openxmlformats.org/officeDocument/2006/relationships/image" Target="../media/image33.png"/><Relationship Id="rId30" Type="http://schemas.openxmlformats.org/officeDocument/2006/relationships/image" Target="../media/image33.png"/><Relationship Id="rId31" Type="http://schemas.openxmlformats.org/officeDocument/2006/relationships/image" Target="../media/image33.png"/><Relationship Id="rId32" Type="http://schemas.openxmlformats.org/officeDocument/2006/relationships/image" Target="../media/image33.png"/><Relationship Id="rId33" Type="http://schemas.openxmlformats.org/officeDocument/2006/relationships/image" Target="../media/image33.png"/><Relationship Id="rId34" Type="http://schemas.openxmlformats.org/officeDocument/2006/relationships/image" Target="../media/image33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image" Target="../media/image33.png"/><Relationship Id="rId38" Type="http://schemas.openxmlformats.org/officeDocument/2006/relationships/image" Target="../media/image33.png"/><Relationship Id="rId39" Type="http://schemas.openxmlformats.org/officeDocument/2006/relationships/image" Target="../media/image33.png"/><Relationship Id="rId40" Type="http://schemas.openxmlformats.org/officeDocument/2006/relationships/image" Target="../media/image33.png"/><Relationship Id="rId41" Type="http://schemas.openxmlformats.org/officeDocument/2006/relationships/image" Target="../media/image33.png"/><Relationship Id="rId42" Type="http://schemas.openxmlformats.org/officeDocument/2006/relationships/image" Target="../media/image33.png"/><Relationship Id="rId43" Type="http://schemas.openxmlformats.org/officeDocument/2006/relationships/image" Target="../media/image33.png"/><Relationship Id="rId44" Type="http://schemas.openxmlformats.org/officeDocument/2006/relationships/image" Target="../media/image33.png"/><Relationship Id="rId45" Type="http://schemas.openxmlformats.org/officeDocument/2006/relationships/image" Target="../media/image33.png"/><Relationship Id="rId46" Type="http://schemas.openxmlformats.org/officeDocument/2006/relationships/image" Target="../media/image33.png"/><Relationship Id="rId47" Type="http://schemas.openxmlformats.org/officeDocument/2006/relationships/image" Target="../media/image33.png"/><Relationship Id="rId48" Type="http://schemas.openxmlformats.org/officeDocument/2006/relationships/image" Target="../media/image33.png"/><Relationship Id="rId49" Type="http://schemas.openxmlformats.org/officeDocument/2006/relationships/image" Target="../media/image33.png"/><Relationship Id="rId50" Type="http://schemas.openxmlformats.org/officeDocument/2006/relationships/image" Target="../media/image33.png"/><Relationship Id="rId51" Type="http://schemas.openxmlformats.org/officeDocument/2006/relationships/image" Target="../media/image33.png"/><Relationship Id="rId52" Type="http://schemas.openxmlformats.org/officeDocument/2006/relationships/image" Target="../media/image33.png"/><Relationship Id="rId53" Type="http://schemas.openxmlformats.org/officeDocument/2006/relationships/image" Target="../media/image33.png"/><Relationship Id="rId54" Type="http://schemas.openxmlformats.org/officeDocument/2006/relationships/image" Target="../media/image33.png"/><Relationship Id="rId55" Type="http://schemas.openxmlformats.org/officeDocument/2006/relationships/image" Target="../media/image33.png"/><Relationship Id="rId56" Type="http://schemas.openxmlformats.org/officeDocument/2006/relationships/image" Target="../media/image33.png"/><Relationship Id="rId57" Type="http://schemas.openxmlformats.org/officeDocument/2006/relationships/image" Target="../media/image33.png"/><Relationship Id="rId58" Type="http://schemas.openxmlformats.org/officeDocument/2006/relationships/image" Target="../media/image33.png"/><Relationship Id="rId59" Type="http://schemas.openxmlformats.org/officeDocument/2006/relationships/image" Target="../media/image33.png"/><Relationship Id="rId60" Type="http://schemas.openxmlformats.org/officeDocument/2006/relationships/image" Target="../media/image33.png"/><Relationship Id="rId61" Type="http://schemas.openxmlformats.org/officeDocument/2006/relationships/image" Target="../media/image33.png"/><Relationship Id="rId62" Type="http://schemas.openxmlformats.org/officeDocument/2006/relationships/image" Target="../media/image33.png"/><Relationship Id="rId63" Type="http://schemas.openxmlformats.org/officeDocument/2006/relationships/image" Target="../media/image33.png"/><Relationship Id="rId64" Type="http://schemas.openxmlformats.org/officeDocument/2006/relationships/image" Target="../media/image33.png"/><Relationship Id="rId65" Type="http://schemas.openxmlformats.org/officeDocument/2006/relationships/image" Target="../media/image33.png"/><Relationship Id="rId66" Type="http://schemas.openxmlformats.org/officeDocument/2006/relationships/image" Target="../media/image33.png"/><Relationship Id="rId67" Type="http://schemas.openxmlformats.org/officeDocument/2006/relationships/image" Target="../media/image33.png"/><Relationship Id="rId68" Type="http://schemas.openxmlformats.org/officeDocument/2006/relationships/image" Target="../media/image33.png"/><Relationship Id="rId69" Type="http://schemas.openxmlformats.org/officeDocument/2006/relationships/image" Target="../media/image33.png"/><Relationship Id="rId70" Type="http://schemas.openxmlformats.org/officeDocument/2006/relationships/image" Target="../media/image33.png"/><Relationship Id="rId71" Type="http://schemas.openxmlformats.org/officeDocument/2006/relationships/image" Target="../media/image33.png"/><Relationship Id="rId72" Type="http://schemas.openxmlformats.org/officeDocument/2006/relationships/image" Target="../media/image33.png"/><Relationship Id="rId73" Type="http://schemas.openxmlformats.org/officeDocument/2006/relationships/image" Target="../media/image33.png"/><Relationship Id="rId74" Type="http://schemas.openxmlformats.org/officeDocument/2006/relationships/image" Target="../media/image33.png"/><Relationship Id="rId75" Type="http://schemas.openxmlformats.org/officeDocument/2006/relationships/image" Target="../media/image33.png"/><Relationship Id="rId76" Type="http://schemas.openxmlformats.org/officeDocument/2006/relationships/image" Target="../media/image33.png"/><Relationship Id="rId77" Type="http://schemas.openxmlformats.org/officeDocument/2006/relationships/image" Target="../media/image33.png"/><Relationship Id="rId78" Type="http://schemas.openxmlformats.org/officeDocument/2006/relationships/image" Target="../media/image33.png"/><Relationship Id="rId79" Type="http://schemas.openxmlformats.org/officeDocument/2006/relationships/image" Target="../media/image33.png"/><Relationship Id="rId80" Type="http://schemas.openxmlformats.org/officeDocument/2006/relationships/image" Target="../media/image33.png"/><Relationship Id="rId81" Type="http://schemas.openxmlformats.org/officeDocument/2006/relationships/image" Target="../media/image33.png"/><Relationship Id="rId82" Type="http://schemas.openxmlformats.org/officeDocument/2006/relationships/image" Target="../media/image33.png"/><Relationship Id="rId83" Type="http://schemas.openxmlformats.org/officeDocument/2006/relationships/image" Target="../media/image33.png"/><Relationship Id="rId84" Type="http://schemas.openxmlformats.org/officeDocument/2006/relationships/image" Target="../media/image33.png"/><Relationship Id="rId85" Type="http://schemas.openxmlformats.org/officeDocument/2006/relationships/image" Target="../media/image33.png"/><Relationship Id="rId86" Type="http://schemas.openxmlformats.org/officeDocument/2006/relationships/image" Target="../media/image33.png"/><Relationship Id="rId87" Type="http://schemas.openxmlformats.org/officeDocument/2006/relationships/image" Target="../media/image33.png"/><Relationship Id="rId88" Type="http://schemas.openxmlformats.org/officeDocument/2006/relationships/image" Target="../media/image33.png"/><Relationship Id="rId89" Type="http://schemas.openxmlformats.org/officeDocument/2006/relationships/image" Target="../media/image33.png"/><Relationship Id="rId90" Type="http://schemas.openxmlformats.org/officeDocument/2006/relationships/image" Target="../media/image33.png"/><Relationship Id="rId91" Type="http://schemas.openxmlformats.org/officeDocument/2006/relationships/image" Target="../media/image33.png"/><Relationship Id="rId92" Type="http://schemas.openxmlformats.org/officeDocument/2006/relationships/image" Target="../media/image33.png"/><Relationship Id="rId93" Type="http://schemas.openxmlformats.org/officeDocument/2006/relationships/image" Target="../media/image33.png"/><Relationship Id="rId94" Type="http://schemas.openxmlformats.org/officeDocument/2006/relationships/image" Target="../media/image33.png"/><Relationship Id="rId95" Type="http://schemas.openxmlformats.org/officeDocument/2006/relationships/image" Target="../media/image33.png"/><Relationship Id="rId96" Type="http://schemas.openxmlformats.org/officeDocument/2006/relationships/image" Target="../media/image33.png"/><Relationship Id="rId97" Type="http://schemas.openxmlformats.org/officeDocument/2006/relationships/image" Target="../media/image26.jpeg"/><Relationship Id="rId9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oyou.com/jsgyhg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online.cri.com.cn/773/2003-6-4/113@246570.htm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tw/imgres?imgurl=sh.sina.com.cn/eat/20030512/1_18-90-1529-459_2003051211323.jpg&amp;imgrefurl=http://sh.sina.com.cn/eat/20030512/113210822.shtml&amp;h=286&amp;w=400&amp;sz=20&amp;tbnid=X0i8MsoS44AJ:&amp;tbnh=85&amp;tbnw=118&amp;start=7&amp;prev=/images%3F%20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69200" y="1983240"/>
            <a:ext cx="27320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樱桃桑椹与菖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更买雄黄酒一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门外高悬黄纸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却疑账主怕灵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清）李静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90520" y="838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看古诗猜传统节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600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令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端 阳（端午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者为何对家乡的鸭蛋久久不能忘怀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家乡咸鸭蛋的难以忘怀，实际上并不是作者个人的心态。这是人类普遍的心理。儿时的一切，在成年之后，都会笼罩上一层异样的光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334120" y="4038480"/>
            <a:ext cx="338292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者如此津津乐道“咸鸭蛋”有意义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3657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流露出对儿时生活的怀想，对故乡的热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18288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ff00ff"/>
                </a:solidFill>
                <a:latin typeface="宋体"/>
              </a:rPr>
              <a:t>爱生活，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从平淡的生活中发现情趣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发现快乐，发现诗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28600" y="4952880"/>
            <a:ext cx="251460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762120" y="990720"/>
            <a:ext cx="7772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品味生活的“美食家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1371600" y="1676520"/>
            <a:ext cx="5334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美文家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6194520"/>
            <a:ext cx="9144000" cy="663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900000" y="206064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华文行楷"/>
                <a:ea typeface="华文行楷"/>
              </a:rPr>
              <a:t>一代大师汪曾祺，</a:t>
            </a:r>
            <a:br>
              <a:rPr sz="6000"/>
            </a:br>
            <a:r>
              <a:rPr b="0" lang="zh-CN" sz="6000" spc="-1" strike="noStrike">
                <a:solidFill>
                  <a:srgbClr val="000066"/>
                </a:solidFill>
                <a:latin typeface="华文行楷"/>
                <a:ea typeface="华文行楷"/>
              </a:rPr>
              <a:t>方言俗语也入文。</a:t>
            </a:r>
            <a:br>
              <a:rPr sz="6000"/>
            </a:br>
            <a:r>
              <a:rPr b="0" lang="zh-CN" sz="6000" spc="-1" strike="noStrike">
                <a:solidFill>
                  <a:srgbClr val="000066"/>
                </a:solidFill>
                <a:latin typeface="华文行楷"/>
                <a:ea typeface="华文行楷"/>
              </a:rPr>
              <a:t>平平淡淡显真味，</a:t>
            </a:r>
            <a:br>
              <a:rPr sz="6000"/>
            </a:br>
            <a:r>
              <a:rPr b="0" lang="zh-CN" sz="6000" spc="-1" strike="noStrike">
                <a:solidFill>
                  <a:srgbClr val="000066"/>
                </a:solidFill>
                <a:latin typeface="华文行楷"/>
                <a:ea typeface="华文行楷"/>
              </a:rPr>
              <a:t>幽默风趣抒性情</a:t>
            </a:r>
            <a:r>
              <a:rPr b="0" lang="zh-CN" sz="3200" spc="-1" strike="noStrike">
                <a:solidFill>
                  <a:srgbClr val="000066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21640" y="3505320"/>
            <a:ext cx="2322360" cy="27748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255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127764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                      </a:t>
            </a:r>
            <a:r>
              <a:rPr b="0" lang="zh-CN" sz="4000" spc="-1" strike="noStrike">
                <a:solidFill>
                  <a:srgbClr val="9900ff"/>
                </a:solidFill>
                <a:latin typeface="华文新魏"/>
                <a:ea typeface="华文新魏"/>
              </a:rPr>
              <a:t>品味课文语言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汪曾祺是一位非常讲究语言艺术的作家，他曾经谈到自己在语言上的追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9900"/>
                </a:solidFill>
                <a:latin typeface="华文新魏"/>
                <a:ea typeface="华文新魏"/>
              </a:rPr>
              <a:t>平淡而有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b9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25b6ff"/>
                </a:solidFill>
                <a:latin typeface="华文新魏"/>
                <a:ea typeface="华文新魏"/>
              </a:rPr>
              <a:t>用适当的方言表现作品的地方特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59ea5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59ea5"/>
                </a:solidFill>
                <a:latin typeface="华文新魏"/>
                <a:ea typeface="华文新魏"/>
              </a:rPr>
              <a:t>有淡淡的幽默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18080" y="217440"/>
            <a:ext cx="4138560" cy="3463920"/>
          </a:xfrm>
          <a:custGeom>
            <a:avLst/>
            <a:gdLst/>
            <a:ahLst/>
            <a:rect l="l" t="t" r="r" b="b"/>
            <a:pathLst>
              <a:path w="11495" h="9621">
                <a:moveTo>
                  <a:pt x="12827" y="1016"/>
                </a:moveTo>
                <a:cubicBezTo>
                  <a:pt x="12859" y="1016"/>
                  <a:pt x="12870" y="1016"/>
                  <a:pt x="12891" y="1016"/>
                </a:cubicBezTo>
                <a:cubicBezTo>
                  <a:pt x="12924" y="991"/>
                  <a:pt x="12942" y="895"/>
                  <a:pt x="13018" y="857"/>
                </a:cubicBezTo>
                <a:cubicBezTo>
                  <a:pt x="13114" y="809"/>
                  <a:pt x="13205" y="775"/>
                  <a:pt x="13304" y="730"/>
                </a:cubicBezTo>
                <a:cubicBezTo>
                  <a:pt x="13542" y="622"/>
                  <a:pt x="13744" y="601"/>
                  <a:pt x="14002" y="603"/>
                </a:cubicBezTo>
                <a:cubicBezTo>
                  <a:pt x="14262" y="605"/>
                  <a:pt x="14509" y="642"/>
                  <a:pt x="14764" y="698"/>
                </a:cubicBezTo>
                <a:cubicBezTo>
                  <a:pt x="15074" y="766"/>
                  <a:pt x="15267" y="799"/>
                  <a:pt x="15463" y="1048"/>
                </a:cubicBezTo>
                <a:cubicBezTo>
                  <a:pt x="15551" y="1159"/>
                  <a:pt x="15644" y="1348"/>
                  <a:pt x="15685" y="1492"/>
                </a:cubicBezTo>
                <a:cubicBezTo>
                  <a:pt x="15709" y="1574"/>
                  <a:pt x="15705" y="1694"/>
                  <a:pt x="15717" y="1778"/>
                </a:cubicBezTo>
                <a:cubicBezTo>
                  <a:pt x="15726" y="1840"/>
                  <a:pt x="15708" y="1906"/>
                  <a:pt x="15717" y="1968"/>
                </a:cubicBezTo>
                <a:cubicBezTo>
                  <a:pt x="15787" y="1940"/>
                  <a:pt x="15865" y="1867"/>
                  <a:pt x="15939" y="1841"/>
                </a:cubicBezTo>
                <a:cubicBezTo>
                  <a:pt x="16336" y="1703"/>
                  <a:pt x="16803" y="1640"/>
                  <a:pt x="17209" y="1587"/>
                </a:cubicBezTo>
                <a:cubicBezTo>
                  <a:pt x="17399" y="1562"/>
                  <a:pt x="17732" y="1497"/>
                  <a:pt x="17907" y="1587"/>
                </a:cubicBezTo>
                <a:cubicBezTo>
                  <a:pt x="18080" y="1675"/>
                  <a:pt x="18249" y="1905"/>
                  <a:pt x="18352" y="2064"/>
                </a:cubicBezTo>
                <a:cubicBezTo>
                  <a:pt x="18402" y="2141"/>
                  <a:pt x="18454" y="2228"/>
                  <a:pt x="18479" y="2318"/>
                </a:cubicBezTo>
                <a:cubicBezTo>
                  <a:pt x="18503" y="2406"/>
                  <a:pt x="18462" y="2513"/>
                  <a:pt x="18479" y="2603"/>
                </a:cubicBezTo>
                <a:cubicBezTo>
                  <a:pt x="18518" y="2587"/>
                  <a:pt x="18628" y="2496"/>
                  <a:pt x="18701" y="2476"/>
                </a:cubicBezTo>
                <a:cubicBezTo>
                  <a:pt x="19005" y="2392"/>
                  <a:pt x="19307" y="2413"/>
                  <a:pt x="19622" y="2413"/>
                </a:cubicBezTo>
                <a:cubicBezTo>
                  <a:pt x="19747" y="2413"/>
                  <a:pt x="19864" y="2408"/>
                  <a:pt x="19971" y="2445"/>
                </a:cubicBezTo>
                <a:cubicBezTo>
                  <a:pt x="20139" y="2504"/>
                  <a:pt x="20334" y="2642"/>
                  <a:pt x="20447" y="2762"/>
                </a:cubicBezTo>
                <a:cubicBezTo>
                  <a:pt x="20534" y="2854"/>
                  <a:pt x="20537" y="2911"/>
                  <a:pt x="20606" y="3016"/>
                </a:cubicBezTo>
                <a:cubicBezTo>
                  <a:pt x="20687" y="3140"/>
                  <a:pt x="20737" y="3254"/>
                  <a:pt x="20765" y="3397"/>
                </a:cubicBezTo>
                <a:cubicBezTo>
                  <a:pt x="20787" y="3508"/>
                  <a:pt x="20733" y="3689"/>
                  <a:pt x="20733" y="3746"/>
                </a:cubicBezTo>
                <a:cubicBezTo>
                  <a:pt x="20758" y="3730"/>
                  <a:pt x="20762" y="3702"/>
                  <a:pt x="20797" y="3683"/>
                </a:cubicBezTo>
                <a:cubicBezTo>
                  <a:pt x="20905" y="3625"/>
                  <a:pt x="21005" y="3577"/>
                  <a:pt x="21114" y="3524"/>
                </a:cubicBezTo>
                <a:cubicBezTo>
                  <a:pt x="21356" y="3407"/>
                  <a:pt x="21602" y="3285"/>
                  <a:pt x="21876" y="3270"/>
                </a:cubicBezTo>
                <a:cubicBezTo>
                  <a:pt x="22071" y="3259"/>
                  <a:pt x="22177" y="3289"/>
                  <a:pt x="22352" y="3365"/>
                </a:cubicBezTo>
                <a:cubicBezTo>
                  <a:pt x="22458" y="3411"/>
                  <a:pt x="22555" y="3479"/>
                  <a:pt x="22638" y="3556"/>
                </a:cubicBezTo>
                <a:cubicBezTo>
                  <a:pt x="22704" y="3617"/>
                  <a:pt x="22825" y="3777"/>
                  <a:pt x="22860" y="3842"/>
                </a:cubicBezTo>
                <a:cubicBezTo>
                  <a:pt x="22927" y="3965"/>
                  <a:pt x="22926" y="4067"/>
                  <a:pt x="22956" y="4191"/>
                </a:cubicBezTo>
                <a:cubicBezTo>
                  <a:pt x="22968" y="4241"/>
                  <a:pt x="22946" y="4298"/>
                  <a:pt x="22956" y="4349"/>
                </a:cubicBezTo>
                <a:cubicBezTo>
                  <a:pt x="23009" y="4332"/>
                  <a:pt x="22965" y="4266"/>
                  <a:pt x="23019" y="4254"/>
                </a:cubicBezTo>
                <a:cubicBezTo>
                  <a:pt x="23105" y="4236"/>
                  <a:pt x="23182" y="4223"/>
                  <a:pt x="23273" y="4223"/>
                </a:cubicBezTo>
                <a:cubicBezTo>
                  <a:pt x="23486" y="4223"/>
                  <a:pt x="23534" y="4255"/>
                  <a:pt x="23686" y="4381"/>
                </a:cubicBezTo>
                <a:cubicBezTo>
                  <a:pt x="23783" y="4461"/>
                  <a:pt x="23835" y="4600"/>
                  <a:pt x="23908" y="4699"/>
                </a:cubicBezTo>
                <a:cubicBezTo>
                  <a:pt x="23970" y="4783"/>
                  <a:pt x="24071" y="4887"/>
                  <a:pt x="24099" y="4984"/>
                </a:cubicBezTo>
                <a:cubicBezTo>
                  <a:pt x="24137" y="5115"/>
                  <a:pt x="24108" y="5187"/>
                  <a:pt x="24099" y="5302"/>
                </a:cubicBezTo>
                <a:cubicBezTo>
                  <a:pt x="24095" y="5349"/>
                  <a:pt x="24040" y="5351"/>
                  <a:pt x="24035" y="5397"/>
                </a:cubicBezTo>
                <a:cubicBezTo>
                  <a:pt x="24052" y="5424"/>
                  <a:pt x="24088" y="5442"/>
                  <a:pt x="24099" y="5461"/>
                </a:cubicBezTo>
                <a:cubicBezTo>
                  <a:pt x="24118" y="5494"/>
                  <a:pt x="24156" y="5513"/>
                  <a:pt x="24162" y="5524"/>
                </a:cubicBezTo>
                <a:cubicBezTo>
                  <a:pt x="24177" y="5550"/>
                  <a:pt x="24214" y="5622"/>
                  <a:pt x="24226" y="5651"/>
                </a:cubicBezTo>
                <a:cubicBezTo>
                  <a:pt x="24279" y="5783"/>
                  <a:pt x="24306" y="5854"/>
                  <a:pt x="24321" y="6000"/>
                </a:cubicBezTo>
                <a:cubicBezTo>
                  <a:pt x="24350" y="6281"/>
                  <a:pt x="24233" y="6316"/>
                  <a:pt x="24067" y="6508"/>
                </a:cubicBezTo>
                <a:cubicBezTo>
                  <a:pt x="24001" y="6584"/>
                  <a:pt x="23846" y="6674"/>
                  <a:pt x="23813" y="6762"/>
                </a:cubicBezTo>
                <a:cubicBezTo>
                  <a:pt x="23786" y="6834"/>
                  <a:pt x="23749" y="6763"/>
                  <a:pt x="23750" y="6858"/>
                </a:cubicBezTo>
                <a:cubicBezTo>
                  <a:pt x="23751" y="6958"/>
                  <a:pt x="23816" y="6926"/>
                  <a:pt x="23845" y="7016"/>
                </a:cubicBezTo>
                <a:cubicBezTo>
                  <a:pt x="23873" y="7103"/>
                  <a:pt x="23937" y="7131"/>
                  <a:pt x="23972" y="7207"/>
                </a:cubicBezTo>
                <a:cubicBezTo>
                  <a:pt x="23997" y="7260"/>
                  <a:pt x="24047" y="7314"/>
                  <a:pt x="24067" y="7366"/>
                </a:cubicBezTo>
                <a:cubicBezTo>
                  <a:pt x="24098" y="7446"/>
                  <a:pt x="24116" y="7537"/>
                  <a:pt x="24131" y="7620"/>
                </a:cubicBezTo>
                <a:cubicBezTo>
                  <a:pt x="24144" y="7690"/>
                  <a:pt x="24087" y="7669"/>
                  <a:pt x="24099" y="7715"/>
                </a:cubicBezTo>
                <a:cubicBezTo>
                  <a:pt x="24130" y="7833"/>
                  <a:pt x="24175" y="7946"/>
                  <a:pt x="24194" y="8064"/>
                </a:cubicBezTo>
                <a:cubicBezTo>
                  <a:pt x="24206" y="8136"/>
                  <a:pt x="24218" y="8230"/>
                  <a:pt x="24226" y="8318"/>
                </a:cubicBezTo>
                <a:cubicBezTo>
                  <a:pt x="24231" y="8371"/>
                  <a:pt x="24221" y="8425"/>
                  <a:pt x="24226" y="8477"/>
                </a:cubicBezTo>
                <a:cubicBezTo>
                  <a:pt x="24163" y="8484"/>
                  <a:pt x="24130" y="8503"/>
                  <a:pt x="24067" y="8509"/>
                </a:cubicBezTo>
                <a:cubicBezTo>
                  <a:pt x="24014" y="8514"/>
                  <a:pt x="23960" y="8503"/>
                  <a:pt x="23908" y="8509"/>
                </a:cubicBezTo>
                <a:cubicBezTo>
                  <a:pt x="23949" y="8695"/>
                  <a:pt x="23938" y="8779"/>
                  <a:pt x="24004" y="8953"/>
                </a:cubicBezTo>
                <a:cubicBezTo>
                  <a:pt x="24025" y="9010"/>
                  <a:pt x="24085" y="9053"/>
                  <a:pt x="24099" y="9112"/>
                </a:cubicBezTo>
                <a:cubicBezTo>
                  <a:pt x="24140" y="9285"/>
                  <a:pt x="24107" y="9493"/>
                  <a:pt x="24099" y="9620"/>
                </a:cubicBezTo>
                <a:cubicBezTo>
                  <a:pt x="24096" y="9666"/>
                  <a:pt x="23999" y="9637"/>
                  <a:pt x="24004" y="9683"/>
                </a:cubicBezTo>
                <a:cubicBezTo>
                  <a:pt x="24018" y="9814"/>
                  <a:pt x="24108" y="9885"/>
                  <a:pt x="24131" y="10001"/>
                </a:cubicBezTo>
                <a:cubicBezTo>
                  <a:pt x="24150" y="10094"/>
                  <a:pt x="24138" y="10099"/>
                  <a:pt x="24162" y="10191"/>
                </a:cubicBezTo>
              </a:path>
            </a:pathLst>
          </a:custGeom>
          <a:noFill/>
          <a:ln cap="rnd" w="442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60280"/>
            <a:ext cx="6869160" cy="6275520"/>
          </a:xfrm>
          <a:custGeom>
            <a:avLst/>
            <a:gdLst/>
            <a:ahLst/>
            <a:rect l="l" t="t" r="r" b="b"/>
            <a:pathLst>
              <a:path w="19083" h="17431">
                <a:moveTo>
                  <a:pt x="12764" y="1016"/>
                </a:moveTo>
                <a:cubicBezTo>
                  <a:pt x="12133" y="1007"/>
                  <a:pt x="11496" y="1012"/>
                  <a:pt x="10922" y="1079"/>
                </a:cubicBezTo>
                <a:cubicBezTo>
                  <a:pt x="10748" y="1099"/>
                  <a:pt x="10492" y="1182"/>
                  <a:pt x="10255" y="1143"/>
                </a:cubicBezTo>
                <a:cubicBezTo>
                  <a:pt x="10072" y="1113"/>
                  <a:pt x="9989" y="1039"/>
                  <a:pt x="9811" y="984"/>
                </a:cubicBezTo>
                <a:cubicBezTo>
                  <a:pt x="9530" y="898"/>
                  <a:pt x="9285" y="736"/>
                  <a:pt x="8985" y="762"/>
                </a:cubicBezTo>
                <a:cubicBezTo>
                  <a:pt x="8656" y="790"/>
                  <a:pt x="8460" y="923"/>
                  <a:pt x="8192" y="1111"/>
                </a:cubicBezTo>
                <a:cubicBezTo>
                  <a:pt x="7924" y="1299"/>
                  <a:pt x="7887" y="1479"/>
                  <a:pt x="7588" y="1556"/>
                </a:cubicBezTo>
                <a:cubicBezTo>
                  <a:pt x="7095" y="1683"/>
                  <a:pt x="6193" y="1332"/>
                  <a:pt x="5810" y="1619"/>
                </a:cubicBezTo>
                <a:cubicBezTo>
                  <a:pt x="5735" y="1675"/>
                  <a:pt x="5680" y="1987"/>
                  <a:pt x="5652" y="2000"/>
                </a:cubicBezTo>
                <a:cubicBezTo>
                  <a:pt x="5517" y="2061"/>
                  <a:pt x="5450" y="2054"/>
                  <a:pt x="5271" y="2095"/>
                </a:cubicBezTo>
                <a:cubicBezTo>
                  <a:pt x="4794" y="2204"/>
                  <a:pt x="4253" y="2023"/>
                  <a:pt x="3778" y="2159"/>
                </a:cubicBezTo>
                <a:cubicBezTo>
                  <a:pt x="3530" y="2230"/>
                  <a:pt x="3544" y="2206"/>
                  <a:pt x="3334" y="2381"/>
                </a:cubicBezTo>
                <a:cubicBezTo>
                  <a:pt x="3307" y="2403"/>
                  <a:pt x="3307" y="2478"/>
                  <a:pt x="3270" y="2508"/>
                </a:cubicBezTo>
                <a:cubicBezTo>
                  <a:pt x="3229" y="2541"/>
                  <a:pt x="3253" y="2664"/>
                  <a:pt x="3207" y="2699"/>
                </a:cubicBezTo>
                <a:cubicBezTo>
                  <a:pt x="3167" y="2729"/>
                  <a:pt x="3136" y="2722"/>
                  <a:pt x="3080" y="2762"/>
                </a:cubicBezTo>
                <a:cubicBezTo>
                  <a:pt x="3044" y="2787"/>
                  <a:pt x="2993" y="2797"/>
                  <a:pt x="2953" y="2826"/>
                </a:cubicBezTo>
                <a:cubicBezTo>
                  <a:pt x="2866" y="2890"/>
                  <a:pt x="2755" y="2912"/>
                  <a:pt x="2667" y="2984"/>
                </a:cubicBezTo>
                <a:cubicBezTo>
                  <a:pt x="2582" y="3054"/>
                  <a:pt x="2475" y="3087"/>
                  <a:pt x="2413" y="3175"/>
                </a:cubicBezTo>
                <a:cubicBezTo>
                  <a:pt x="2346" y="3270"/>
                  <a:pt x="2313" y="3450"/>
                  <a:pt x="2254" y="3524"/>
                </a:cubicBezTo>
                <a:cubicBezTo>
                  <a:pt x="2201" y="3591"/>
                  <a:pt x="2209" y="3658"/>
                  <a:pt x="2159" y="3715"/>
                </a:cubicBezTo>
                <a:cubicBezTo>
                  <a:pt x="2113" y="3768"/>
                  <a:pt x="2054" y="3778"/>
                  <a:pt x="2000" y="3842"/>
                </a:cubicBezTo>
                <a:cubicBezTo>
                  <a:pt x="1961" y="3889"/>
                  <a:pt x="1858" y="3935"/>
                  <a:pt x="1810" y="4000"/>
                </a:cubicBezTo>
                <a:cubicBezTo>
                  <a:pt x="1716" y="4128"/>
                  <a:pt x="1624" y="4206"/>
                  <a:pt x="1556" y="4349"/>
                </a:cubicBezTo>
                <a:cubicBezTo>
                  <a:pt x="1531" y="4402"/>
                  <a:pt x="1549" y="4397"/>
                  <a:pt x="1524" y="4476"/>
                </a:cubicBezTo>
                <a:cubicBezTo>
                  <a:pt x="1511" y="4516"/>
                  <a:pt x="1507" y="4622"/>
                  <a:pt x="1492" y="4699"/>
                </a:cubicBezTo>
                <a:cubicBezTo>
                  <a:pt x="1442" y="4953"/>
                  <a:pt x="1475" y="5261"/>
                  <a:pt x="1397" y="5461"/>
                </a:cubicBezTo>
                <a:cubicBezTo>
                  <a:pt x="1376" y="5515"/>
                  <a:pt x="1328" y="5559"/>
                  <a:pt x="1302" y="5619"/>
                </a:cubicBezTo>
                <a:cubicBezTo>
                  <a:pt x="1285" y="5659"/>
                  <a:pt x="1198" y="5715"/>
                  <a:pt x="1175" y="5778"/>
                </a:cubicBezTo>
                <a:cubicBezTo>
                  <a:pt x="1152" y="5841"/>
                  <a:pt x="1103" y="5884"/>
                  <a:pt x="1080" y="5969"/>
                </a:cubicBezTo>
                <a:cubicBezTo>
                  <a:pt x="1059" y="6047"/>
                  <a:pt x="1031" y="6082"/>
                  <a:pt x="1016" y="6159"/>
                </a:cubicBezTo>
                <a:cubicBezTo>
                  <a:pt x="961" y="6443"/>
                  <a:pt x="1051" y="6739"/>
                  <a:pt x="1048" y="7016"/>
                </a:cubicBezTo>
                <a:cubicBezTo>
                  <a:pt x="1048" y="7027"/>
                  <a:pt x="1048" y="7037"/>
                  <a:pt x="1048" y="7048"/>
                </a:cubicBezTo>
                <a:cubicBezTo>
                  <a:pt x="961" y="7089"/>
                  <a:pt x="819" y="7068"/>
                  <a:pt x="730" y="7112"/>
                </a:cubicBezTo>
                <a:cubicBezTo>
                  <a:pt x="642" y="7156"/>
                  <a:pt x="560" y="7216"/>
                  <a:pt x="476" y="7270"/>
                </a:cubicBezTo>
                <a:cubicBezTo>
                  <a:pt x="411" y="7312"/>
                  <a:pt x="158" y="7390"/>
                  <a:pt x="127" y="7461"/>
                </a:cubicBezTo>
                <a:cubicBezTo>
                  <a:pt x="5" y="7739"/>
                  <a:pt x="227" y="7822"/>
                  <a:pt x="222" y="8064"/>
                </a:cubicBezTo>
                <a:cubicBezTo>
                  <a:pt x="221" y="8088"/>
                  <a:pt x="353" y="8195"/>
                  <a:pt x="349" y="8223"/>
                </a:cubicBezTo>
                <a:cubicBezTo>
                  <a:pt x="331" y="8344"/>
                  <a:pt x="272" y="8381"/>
                  <a:pt x="254" y="8477"/>
                </a:cubicBezTo>
                <a:cubicBezTo>
                  <a:pt x="237" y="8571"/>
                  <a:pt x="63" y="8708"/>
                  <a:pt x="64" y="8794"/>
                </a:cubicBezTo>
                <a:cubicBezTo>
                  <a:pt x="65" y="8872"/>
                  <a:pt x="10" y="8901"/>
                  <a:pt x="32" y="8985"/>
                </a:cubicBezTo>
                <a:cubicBezTo>
                  <a:pt x="71" y="9135"/>
                  <a:pt x="381" y="9325"/>
                  <a:pt x="381" y="9366"/>
                </a:cubicBezTo>
                <a:cubicBezTo>
                  <a:pt x="383" y="9571"/>
                  <a:pt x="198" y="9727"/>
                  <a:pt x="191" y="9778"/>
                </a:cubicBezTo>
                <a:cubicBezTo>
                  <a:pt x="319" y="9972"/>
                  <a:pt x="237" y="10098"/>
                  <a:pt x="476" y="10318"/>
                </a:cubicBezTo>
                <a:cubicBezTo>
                  <a:pt x="551" y="10387"/>
                  <a:pt x="596" y="10388"/>
                  <a:pt x="667" y="10445"/>
                </a:cubicBezTo>
                <a:cubicBezTo>
                  <a:pt x="717" y="10484"/>
                  <a:pt x="823" y="10511"/>
                  <a:pt x="857" y="10540"/>
                </a:cubicBezTo>
                <a:cubicBezTo>
                  <a:pt x="789" y="10598"/>
                  <a:pt x="604" y="10598"/>
                  <a:pt x="508" y="10667"/>
                </a:cubicBezTo>
                <a:cubicBezTo>
                  <a:pt x="94" y="10966"/>
                  <a:pt x="37" y="11057"/>
                  <a:pt x="0" y="11620"/>
                </a:cubicBezTo>
                <a:cubicBezTo>
                  <a:pt x="-10" y="11776"/>
                  <a:pt x="-24" y="11991"/>
                  <a:pt x="32" y="12128"/>
                </a:cubicBezTo>
                <a:cubicBezTo>
                  <a:pt x="79" y="12243"/>
                  <a:pt x="196" y="12243"/>
                  <a:pt x="286" y="12318"/>
                </a:cubicBezTo>
                <a:cubicBezTo>
                  <a:pt x="344" y="12367"/>
                  <a:pt x="489" y="12402"/>
                  <a:pt x="572" y="12445"/>
                </a:cubicBezTo>
                <a:cubicBezTo>
                  <a:pt x="592" y="12455"/>
                  <a:pt x="1015" y="12501"/>
                  <a:pt x="1016" y="12509"/>
                </a:cubicBezTo>
                <a:cubicBezTo>
                  <a:pt x="1029" y="12617"/>
                  <a:pt x="785" y="12530"/>
                  <a:pt x="762" y="12636"/>
                </a:cubicBezTo>
                <a:cubicBezTo>
                  <a:pt x="750" y="12692"/>
                  <a:pt x="686" y="12763"/>
                  <a:pt x="667" y="12826"/>
                </a:cubicBezTo>
                <a:cubicBezTo>
                  <a:pt x="641" y="12910"/>
                  <a:pt x="589" y="12959"/>
                  <a:pt x="572" y="13048"/>
                </a:cubicBezTo>
                <a:cubicBezTo>
                  <a:pt x="552" y="13153"/>
                  <a:pt x="508" y="13265"/>
                  <a:pt x="508" y="13366"/>
                </a:cubicBezTo>
                <a:cubicBezTo>
                  <a:pt x="508" y="13816"/>
                  <a:pt x="675" y="13907"/>
                  <a:pt x="1048" y="14064"/>
                </a:cubicBezTo>
                <a:cubicBezTo>
                  <a:pt x="1256" y="14151"/>
                  <a:pt x="1620" y="14106"/>
                  <a:pt x="1842" y="14128"/>
                </a:cubicBezTo>
                <a:cubicBezTo>
                  <a:pt x="1894" y="14133"/>
                  <a:pt x="1948" y="14124"/>
                  <a:pt x="2000" y="14128"/>
                </a:cubicBezTo>
                <a:cubicBezTo>
                  <a:pt x="2108" y="14366"/>
                  <a:pt x="1986" y="14615"/>
                  <a:pt x="2254" y="14826"/>
                </a:cubicBezTo>
                <a:cubicBezTo>
                  <a:pt x="2459" y="14987"/>
                  <a:pt x="2401" y="14964"/>
                  <a:pt x="2635" y="15017"/>
                </a:cubicBezTo>
                <a:cubicBezTo>
                  <a:pt x="2898" y="15077"/>
                  <a:pt x="3223" y="14985"/>
                  <a:pt x="3493" y="14985"/>
                </a:cubicBezTo>
                <a:cubicBezTo>
                  <a:pt x="3576" y="15114"/>
                  <a:pt x="3574" y="15279"/>
                  <a:pt x="3715" y="15430"/>
                </a:cubicBezTo>
                <a:cubicBezTo>
                  <a:pt x="3934" y="15664"/>
                  <a:pt x="4073" y="15821"/>
                  <a:pt x="4382" y="15874"/>
                </a:cubicBezTo>
                <a:cubicBezTo>
                  <a:pt x="4723" y="15932"/>
                  <a:pt x="5057" y="15690"/>
                  <a:pt x="5366" y="15747"/>
                </a:cubicBezTo>
                <a:cubicBezTo>
                  <a:pt x="5466" y="15765"/>
                  <a:pt x="5545" y="15707"/>
                  <a:pt x="5620" y="15747"/>
                </a:cubicBezTo>
                <a:cubicBezTo>
                  <a:pt x="5697" y="15787"/>
                  <a:pt x="5628" y="15895"/>
                  <a:pt x="5715" y="15938"/>
                </a:cubicBezTo>
                <a:cubicBezTo>
                  <a:pt x="5895" y="16027"/>
                  <a:pt x="5962" y="16190"/>
                  <a:pt x="6191" y="16255"/>
                </a:cubicBezTo>
                <a:cubicBezTo>
                  <a:pt x="6532" y="16351"/>
                  <a:pt x="6889" y="16332"/>
                  <a:pt x="7239" y="16287"/>
                </a:cubicBezTo>
                <a:cubicBezTo>
                  <a:pt x="7376" y="16270"/>
                  <a:pt x="7523" y="16227"/>
                  <a:pt x="7652" y="16192"/>
                </a:cubicBezTo>
                <a:cubicBezTo>
                  <a:pt x="7727" y="16172"/>
                  <a:pt x="7925" y="16094"/>
                  <a:pt x="8001" y="16096"/>
                </a:cubicBezTo>
                <a:cubicBezTo>
                  <a:pt x="8048" y="16097"/>
                  <a:pt x="8153" y="15988"/>
                  <a:pt x="8192" y="16001"/>
                </a:cubicBezTo>
                <a:cubicBezTo>
                  <a:pt x="8265" y="16026"/>
                  <a:pt x="8221" y="16031"/>
                  <a:pt x="8287" y="16065"/>
                </a:cubicBezTo>
                <a:cubicBezTo>
                  <a:pt x="8347" y="16096"/>
                  <a:pt x="8306" y="16174"/>
                  <a:pt x="8382" y="16223"/>
                </a:cubicBezTo>
                <a:cubicBezTo>
                  <a:pt x="8467" y="16278"/>
                  <a:pt x="8454" y="16385"/>
                  <a:pt x="8541" y="16446"/>
                </a:cubicBezTo>
                <a:cubicBezTo>
                  <a:pt x="8760" y="16599"/>
                  <a:pt x="8832" y="16731"/>
                  <a:pt x="9144" y="16763"/>
                </a:cubicBezTo>
                <a:cubicBezTo>
                  <a:pt x="9374" y="16786"/>
                  <a:pt x="9661" y="16720"/>
                  <a:pt x="9874" y="16636"/>
                </a:cubicBezTo>
                <a:cubicBezTo>
                  <a:pt x="9984" y="16592"/>
                  <a:pt x="10061" y="16533"/>
                  <a:pt x="10160" y="16477"/>
                </a:cubicBezTo>
                <a:cubicBezTo>
                  <a:pt x="10287" y="16406"/>
                  <a:pt x="10408" y="16248"/>
                  <a:pt x="10509" y="16192"/>
                </a:cubicBezTo>
                <a:cubicBezTo>
                  <a:pt x="10552" y="16168"/>
                  <a:pt x="10569" y="16180"/>
                  <a:pt x="10605" y="16160"/>
                </a:cubicBezTo>
                <a:cubicBezTo>
                  <a:pt x="10635" y="16142"/>
                  <a:pt x="10685" y="16137"/>
                  <a:pt x="10700" y="16128"/>
                </a:cubicBezTo>
                <a:cubicBezTo>
                  <a:pt x="10773" y="16238"/>
                  <a:pt x="10861" y="16387"/>
                  <a:pt x="10954" y="16509"/>
                </a:cubicBezTo>
                <a:cubicBezTo>
                  <a:pt x="11041" y="16623"/>
                  <a:pt x="11098" y="16748"/>
                  <a:pt x="11208" y="16858"/>
                </a:cubicBezTo>
                <a:cubicBezTo>
                  <a:pt x="11322" y="16972"/>
                  <a:pt x="11391" y="17057"/>
                  <a:pt x="11526" y="17144"/>
                </a:cubicBezTo>
                <a:cubicBezTo>
                  <a:pt x="11657" y="17228"/>
                  <a:pt x="11825" y="17289"/>
                  <a:pt x="11970" y="17334"/>
                </a:cubicBezTo>
                <a:cubicBezTo>
                  <a:pt x="12411" y="17471"/>
                  <a:pt x="12929" y="17403"/>
                  <a:pt x="13367" y="17334"/>
                </a:cubicBezTo>
                <a:cubicBezTo>
                  <a:pt x="13592" y="17299"/>
                  <a:pt x="13851" y="17171"/>
                  <a:pt x="14066" y="17176"/>
                </a:cubicBezTo>
                <a:cubicBezTo>
                  <a:pt x="14119" y="17177"/>
                  <a:pt x="14340" y="17075"/>
                  <a:pt x="14351" y="17081"/>
                </a:cubicBezTo>
                <a:cubicBezTo>
                  <a:pt x="14359" y="17085"/>
                  <a:pt x="14460" y="17523"/>
                  <a:pt x="14510" y="17588"/>
                </a:cubicBezTo>
                <a:cubicBezTo>
                  <a:pt x="14573" y="17671"/>
                  <a:pt x="14581" y="17778"/>
                  <a:pt x="14669" y="17842"/>
                </a:cubicBezTo>
                <a:cubicBezTo>
                  <a:pt x="14740" y="17894"/>
                  <a:pt x="14774" y="18013"/>
                  <a:pt x="14828" y="18033"/>
                </a:cubicBezTo>
                <a:cubicBezTo>
                  <a:pt x="15210" y="18174"/>
                  <a:pt x="15786" y="17849"/>
                  <a:pt x="16129" y="17747"/>
                </a:cubicBezTo>
                <a:cubicBezTo>
                  <a:pt x="16265" y="17846"/>
                  <a:pt x="16275" y="18100"/>
                  <a:pt x="16510" y="18160"/>
                </a:cubicBezTo>
                <a:cubicBezTo>
                  <a:pt x="16618" y="18187"/>
                  <a:pt x="16709" y="18197"/>
                  <a:pt x="16828" y="18192"/>
                </a:cubicBezTo>
                <a:cubicBezTo>
                  <a:pt x="17154" y="18178"/>
                  <a:pt x="17640" y="17966"/>
                  <a:pt x="17939" y="17842"/>
                </a:cubicBezTo>
                <a:cubicBezTo>
                  <a:pt x="18221" y="17725"/>
                  <a:pt x="18446" y="17635"/>
                  <a:pt x="18669" y="17430"/>
                </a:cubicBezTo>
                <a:cubicBezTo>
                  <a:pt x="18720" y="17383"/>
                  <a:pt x="18790" y="17345"/>
                  <a:pt x="18828" y="17303"/>
                </a:cubicBezTo>
                <a:cubicBezTo>
                  <a:pt x="18866" y="17260"/>
                  <a:pt x="18860" y="17118"/>
                  <a:pt x="18892" y="17081"/>
                </a:cubicBezTo>
                <a:cubicBezTo>
                  <a:pt x="18904" y="17067"/>
                  <a:pt x="18977" y="17031"/>
                  <a:pt x="18987" y="17017"/>
                </a:cubicBezTo>
                <a:cubicBezTo>
                  <a:pt x="19032" y="16953"/>
                  <a:pt x="19042" y="16882"/>
                  <a:pt x="19082" y="16827"/>
                </a:cubicBezTo>
              </a:path>
            </a:pathLst>
          </a:custGeom>
          <a:noFill/>
          <a:ln cap="rnd" w="475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 rot="16200000">
            <a:off x="956520" y="3083760"/>
            <a:ext cx="216000" cy="1857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 rot="16200000">
            <a:off x="956520" y="4523040"/>
            <a:ext cx="215640" cy="1857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 rot="16200000">
            <a:off x="956520" y="3804480"/>
            <a:ext cx="21600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0" y="0"/>
            <a:ext cx="9143280" cy="6858000"/>
            <a:chOff x="0" y="0"/>
            <a:chExt cx="9143280" cy="6858000"/>
          </a:xfrm>
        </p:grpSpPr>
        <p:grpSp>
          <p:nvGrpSpPr>
            <p:cNvPr id="345" name=""/>
            <p:cNvGrpSpPr/>
            <p:nvPr/>
          </p:nvGrpSpPr>
          <p:grpSpPr>
            <a:xfrm>
              <a:off x="0" y="0"/>
              <a:ext cx="2227320" cy="6858000"/>
              <a:chOff x="0" y="0"/>
              <a:chExt cx="2227320" cy="6858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0" y="0"/>
                <a:ext cx="2227320" cy="3733920"/>
                <a:chOff x="0" y="0"/>
                <a:chExt cx="2227320" cy="373392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0" y="1866960"/>
                  <a:ext cx="2227320" cy="1866960"/>
                  <a:chOff x="0" y="1866960"/>
                  <a:chExt cx="2227320" cy="1866960"/>
                </a:xfrm>
              </p:grpSpPr>
              <p:pic>
                <p:nvPicPr>
                  <p:cNvPr id="348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2781360"/>
                    <a:ext cx="11242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0" y="1866960"/>
                    <a:ext cx="2227320" cy="1866960"/>
                    <a:chOff x="0" y="1866960"/>
                    <a:chExt cx="2227320" cy="1866960"/>
                  </a:xfrm>
                </p:grpSpPr>
                <p:pic>
                  <p:nvPicPr>
                    <p:cNvPr id="3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6696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03040" y="278136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040" y="186696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0" y="0"/>
                  <a:ext cx="2227320" cy="1866960"/>
                  <a:chOff x="0" y="0"/>
                  <a:chExt cx="2227320" cy="1866960"/>
                </a:xfrm>
              </p:grpSpPr>
              <p:pic>
                <p:nvPicPr>
                  <p:cNvPr id="3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914400"/>
                    <a:ext cx="11242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0" y="0"/>
                    <a:ext cx="2227320" cy="1866960"/>
                    <a:chOff x="0" y="0"/>
                    <a:chExt cx="2227320" cy="1866960"/>
                  </a:xfrm>
                </p:grpSpPr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03040" y="91440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03040" y="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359" name=""/>
              <p:cNvGrpSpPr/>
              <p:nvPr/>
            </p:nvGrpSpPr>
            <p:grpSpPr>
              <a:xfrm>
                <a:off x="0" y="3124080"/>
                <a:ext cx="2227320" cy="3733920"/>
                <a:chOff x="0" y="3124080"/>
                <a:chExt cx="2227320" cy="373392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0" y="4991040"/>
                  <a:ext cx="2227320" cy="1866960"/>
                  <a:chOff x="0" y="4991040"/>
                  <a:chExt cx="2227320" cy="1866960"/>
                </a:xfrm>
              </p:grpSpPr>
              <p:pic>
                <p:nvPicPr>
                  <p:cNvPr id="36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5905440"/>
                    <a:ext cx="11242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0" y="4991040"/>
                    <a:ext cx="2227320" cy="1866960"/>
                    <a:chOff x="0" y="4991040"/>
                    <a:chExt cx="2227320" cy="1866960"/>
                  </a:xfrm>
                </p:grpSpPr>
                <p:pic>
                  <p:nvPicPr>
                    <p:cNvPr id="36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99104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103040" y="590544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03040" y="499104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0" y="3124080"/>
                  <a:ext cx="2227320" cy="1866960"/>
                  <a:chOff x="0" y="3124080"/>
                  <a:chExt cx="2227320" cy="1866960"/>
                </a:xfrm>
              </p:grpSpPr>
              <p:pic>
                <p:nvPicPr>
                  <p:cNvPr id="3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4038480"/>
                    <a:ext cx="11242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0" y="3124080"/>
                    <a:ext cx="2227320" cy="1866960"/>
                    <a:chOff x="0" y="3124080"/>
                    <a:chExt cx="2227320" cy="1866960"/>
                  </a:xfrm>
                </p:grpSpPr>
                <p:pic>
                  <p:nvPicPr>
                    <p:cNvPr id="36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0" y="312408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103040" y="403848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03040" y="3124080"/>
                      <a:ext cx="11242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372" name=""/>
            <p:cNvGrpSpPr/>
            <p:nvPr/>
          </p:nvGrpSpPr>
          <p:grpSpPr>
            <a:xfrm>
              <a:off x="5943600" y="0"/>
              <a:ext cx="1999800" cy="6858000"/>
              <a:chOff x="5943600" y="0"/>
              <a:chExt cx="1999800" cy="685800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943600" y="0"/>
                <a:ext cx="1999800" cy="3733920"/>
                <a:chOff x="5943600" y="0"/>
                <a:chExt cx="1999800" cy="373392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5943600" y="1866960"/>
                  <a:ext cx="1999800" cy="1866960"/>
                  <a:chOff x="5943600" y="1866960"/>
                  <a:chExt cx="1999800" cy="1866960"/>
                </a:xfrm>
              </p:grpSpPr>
              <p:pic>
                <p:nvPicPr>
                  <p:cNvPr id="37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43600" y="2781360"/>
                    <a:ext cx="1009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943600" y="1866960"/>
                    <a:ext cx="1999800" cy="1866960"/>
                    <a:chOff x="5943600" y="1866960"/>
                    <a:chExt cx="1999800" cy="1866960"/>
                  </a:xfrm>
                </p:grpSpPr>
                <p:pic>
                  <p:nvPicPr>
                    <p:cNvPr id="3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943600" y="186696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8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933960" y="278136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933960" y="186696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5943600" y="0"/>
                  <a:ext cx="1999800" cy="1866960"/>
                  <a:chOff x="5943600" y="0"/>
                  <a:chExt cx="1999800" cy="1866960"/>
                </a:xfrm>
              </p:grpSpPr>
              <p:pic>
                <p:nvPicPr>
                  <p:cNvPr id="38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943600" y="914400"/>
                    <a:ext cx="1009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943600" y="0"/>
                    <a:ext cx="1999800" cy="1866960"/>
                    <a:chOff x="5943600" y="0"/>
                    <a:chExt cx="1999800" cy="1866960"/>
                  </a:xfrm>
                </p:grpSpPr>
                <p:pic>
                  <p:nvPicPr>
                    <p:cNvPr id="38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943600" y="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4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6933960" y="91440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933960" y="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5943600" y="3124080"/>
                <a:ext cx="1999800" cy="3733920"/>
                <a:chOff x="5943600" y="3124080"/>
                <a:chExt cx="1999800" cy="373392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5943600" y="4991040"/>
                  <a:ext cx="1999800" cy="1866960"/>
                  <a:chOff x="5943600" y="4991040"/>
                  <a:chExt cx="1999800" cy="1866960"/>
                </a:xfrm>
              </p:grpSpPr>
              <p:pic>
                <p:nvPicPr>
                  <p:cNvPr id="388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943600" y="5905440"/>
                    <a:ext cx="1009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943600" y="4991040"/>
                    <a:ext cx="1999800" cy="1866960"/>
                    <a:chOff x="5943600" y="4991040"/>
                    <a:chExt cx="1999800" cy="1866960"/>
                  </a:xfrm>
                </p:grpSpPr>
                <p:pic>
                  <p:nvPicPr>
                    <p:cNvPr id="39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943600" y="499104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1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6933960" y="590544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933960" y="499104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5943600" y="3124080"/>
                  <a:ext cx="1999800" cy="1866960"/>
                  <a:chOff x="5943600" y="3124080"/>
                  <a:chExt cx="1999800" cy="1866960"/>
                </a:xfrm>
              </p:grpSpPr>
              <p:pic>
                <p:nvPicPr>
                  <p:cNvPr id="39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943600" y="4038480"/>
                    <a:ext cx="1009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5943600" y="3124080"/>
                    <a:ext cx="1999800" cy="1866960"/>
                    <a:chOff x="5943600" y="3124080"/>
                    <a:chExt cx="1999800" cy="1866960"/>
                  </a:xfrm>
                </p:grpSpPr>
                <p:pic>
                  <p:nvPicPr>
                    <p:cNvPr id="396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943600" y="312408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6933960" y="403848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933960" y="3124080"/>
                      <a:ext cx="10094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399" name=""/>
            <p:cNvGrpSpPr/>
            <p:nvPr/>
          </p:nvGrpSpPr>
          <p:grpSpPr>
            <a:xfrm>
              <a:off x="304920" y="0"/>
              <a:ext cx="8838360" cy="6858000"/>
              <a:chOff x="304920" y="0"/>
              <a:chExt cx="8838360" cy="685800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304920" y="0"/>
                <a:ext cx="1932840" cy="6858000"/>
                <a:chOff x="304920" y="0"/>
                <a:chExt cx="1932840" cy="6858000"/>
              </a:xfrm>
            </p:grpSpPr>
            <p:grpSp>
              <p:nvGrpSpPr>
                <p:cNvPr id="401" name=""/>
                <p:cNvGrpSpPr/>
                <p:nvPr/>
              </p:nvGrpSpPr>
              <p:grpSpPr>
                <a:xfrm>
                  <a:off x="304920" y="0"/>
                  <a:ext cx="1932840" cy="3733920"/>
                  <a:chOff x="304920" y="0"/>
                  <a:chExt cx="1932840" cy="3733920"/>
                </a:xfrm>
              </p:grpSpPr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304920" y="1866960"/>
                    <a:ext cx="1932840" cy="1866960"/>
                    <a:chOff x="304920" y="1866960"/>
                    <a:chExt cx="1932840" cy="1866960"/>
                  </a:xfrm>
                </p:grpSpPr>
                <p:pic>
                  <p:nvPicPr>
                    <p:cNvPr id="403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304920" y="278136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304920" y="1866960"/>
                      <a:ext cx="1932840" cy="1866960"/>
                      <a:chOff x="304920" y="1866960"/>
                      <a:chExt cx="1932840" cy="1866960"/>
                    </a:xfrm>
                  </p:grpSpPr>
                  <p:pic>
                    <p:nvPicPr>
                      <p:cNvPr id="405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304920" y="186696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06" name="" descr=""/>
                      <p:cNvPicPr/>
                      <p:nvPr/>
                    </p:nvPicPr>
                    <p:blipFill>
                      <a:blip r:embed="rId35"/>
                      <a:stretch/>
                    </p:blipFill>
                    <p:spPr>
                      <a:xfrm>
                        <a:off x="1262160" y="278136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07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1262160" y="186696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304920" y="0"/>
                    <a:ext cx="1932840" cy="1866960"/>
                    <a:chOff x="304920" y="0"/>
                    <a:chExt cx="1932840" cy="1866960"/>
                  </a:xfrm>
                </p:grpSpPr>
                <p:pic>
                  <p:nvPicPr>
                    <p:cNvPr id="409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304920" y="91440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304920" y="0"/>
                      <a:ext cx="1932840" cy="1866960"/>
                      <a:chOff x="304920" y="0"/>
                      <a:chExt cx="1932840" cy="1866960"/>
                    </a:xfrm>
                  </p:grpSpPr>
                  <p:pic>
                    <p:nvPicPr>
                      <p:cNvPr id="411" name="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304920" y="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12" name="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1262160" y="91440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13" name="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1262160" y="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304920" y="3124080"/>
                  <a:ext cx="1932840" cy="3733920"/>
                  <a:chOff x="304920" y="3124080"/>
                  <a:chExt cx="1932840" cy="373392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304920" y="4991040"/>
                    <a:ext cx="1932840" cy="1866960"/>
                    <a:chOff x="304920" y="4991040"/>
                    <a:chExt cx="1932840" cy="1866960"/>
                  </a:xfrm>
                </p:grpSpPr>
                <p:pic>
                  <p:nvPicPr>
                    <p:cNvPr id="416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304920" y="590544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17" name=""/>
                    <p:cNvGrpSpPr/>
                    <p:nvPr/>
                  </p:nvGrpSpPr>
                  <p:grpSpPr>
                    <a:xfrm>
                      <a:off x="304920" y="4991040"/>
                      <a:ext cx="1932840" cy="1866960"/>
                      <a:chOff x="304920" y="4991040"/>
                      <a:chExt cx="1932840" cy="1866960"/>
                    </a:xfrm>
                  </p:grpSpPr>
                  <p:pic>
                    <p:nvPicPr>
                      <p:cNvPr id="418" name="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304920" y="499104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19" name="" descr=""/>
                      <p:cNvPicPr/>
                      <p:nvPr/>
                    </p:nvPicPr>
                    <p:blipFill>
                      <a:blip r:embed="rId43"/>
                      <a:stretch/>
                    </p:blipFill>
                    <p:spPr>
                      <a:xfrm>
                        <a:off x="1262160" y="590544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20" name="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1262160" y="499104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304920" y="3124080"/>
                    <a:ext cx="1932840" cy="1866960"/>
                    <a:chOff x="304920" y="3124080"/>
                    <a:chExt cx="1932840" cy="1866960"/>
                  </a:xfrm>
                </p:grpSpPr>
                <p:pic>
                  <p:nvPicPr>
                    <p:cNvPr id="422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304920" y="403848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23" name=""/>
                    <p:cNvGrpSpPr/>
                    <p:nvPr/>
                  </p:nvGrpSpPr>
                  <p:grpSpPr>
                    <a:xfrm>
                      <a:off x="304920" y="3124080"/>
                      <a:ext cx="1932840" cy="1866960"/>
                      <a:chOff x="304920" y="3124080"/>
                      <a:chExt cx="1932840" cy="1866960"/>
                    </a:xfrm>
                  </p:grpSpPr>
                  <p:pic>
                    <p:nvPicPr>
                      <p:cNvPr id="424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304920" y="312408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25" name="" descr=""/>
                      <p:cNvPicPr/>
                      <p:nvPr/>
                    </p:nvPicPr>
                    <p:blipFill>
                      <a:blip r:embed="rId47"/>
                      <a:stretch/>
                    </p:blipFill>
                    <p:spPr>
                      <a:xfrm>
                        <a:off x="1262160" y="403848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26" name="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1262160" y="312408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2219760" y="0"/>
                <a:ext cx="1933200" cy="6858000"/>
                <a:chOff x="2219760" y="0"/>
                <a:chExt cx="1933200" cy="685800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2219760" y="0"/>
                  <a:ext cx="1933200" cy="3733920"/>
                  <a:chOff x="2219760" y="0"/>
                  <a:chExt cx="1933200" cy="3733920"/>
                </a:xfrm>
              </p:grpSpPr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2219760" y="1866960"/>
                    <a:ext cx="1933200" cy="1866960"/>
                    <a:chOff x="2219760" y="1866960"/>
                    <a:chExt cx="1933200" cy="1866960"/>
                  </a:xfrm>
                </p:grpSpPr>
                <p:pic>
                  <p:nvPicPr>
                    <p:cNvPr id="430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2219760" y="2781360"/>
                      <a:ext cx="97596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31" name=""/>
                    <p:cNvGrpSpPr/>
                    <p:nvPr/>
                  </p:nvGrpSpPr>
                  <p:grpSpPr>
                    <a:xfrm>
                      <a:off x="2219760" y="1866960"/>
                      <a:ext cx="1933200" cy="1866960"/>
                      <a:chOff x="2219760" y="1866960"/>
                      <a:chExt cx="1933200" cy="1866960"/>
                    </a:xfrm>
                  </p:grpSpPr>
                  <p:pic>
                    <p:nvPicPr>
                      <p:cNvPr id="432" name="" descr=""/>
                      <p:cNvPicPr/>
                      <p:nvPr/>
                    </p:nvPicPr>
                    <p:blipFill>
                      <a:blip r:embed="rId50"/>
                      <a:stretch/>
                    </p:blipFill>
                    <p:spPr>
                      <a:xfrm>
                        <a:off x="2219760" y="186696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33" name="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3177000" y="278136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52"/>
                      <a:stretch/>
                    </p:blipFill>
                    <p:spPr>
                      <a:xfrm>
                        <a:off x="3177000" y="186696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2219760" y="0"/>
                    <a:ext cx="1933200" cy="1866960"/>
                    <a:chOff x="2219760" y="0"/>
                    <a:chExt cx="1933200" cy="1866960"/>
                  </a:xfrm>
                </p:grpSpPr>
                <p:pic>
                  <p:nvPicPr>
                    <p:cNvPr id="436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2219760" y="914400"/>
                      <a:ext cx="97596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37" name=""/>
                    <p:cNvGrpSpPr/>
                    <p:nvPr/>
                  </p:nvGrpSpPr>
                  <p:grpSpPr>
                    <a:xfrm>
                      <a:off x="2219760" y="0"/>
                      <a:ext cx="1933200" cy="1866960"/>
                      <a:chOff x="2219760" y="0"/>
                      <a:chExt cx="1933200" cy="1866960"/>
                    </a:xfrm>
                  </p:grpSpPr>
                  <p:pic>
                    <p:nvPicPr>
                      <p:cNvPr id="438" name="" descr=""/>
                      <p:cNvPicPr/>
                      <p:nvPr/>
                    </p:nvPicPr>
                    <p:blipFill>
                      <a:blip r:embed="rId54"/>
                      <a:stretch/>
                    </p:blipFill>
                    <p:spPr>
                      <a:xfrm>
                        <a:off x="2219760" y="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39" name="" descr=""/>
                      <p:cNvPicPr/>
                      <p:nvPr/>
                    </p:nvPicPr>
                    <p:blipFill>
                      <a:blip r:embed="rId55"/>
                      <a:stretch/>
                    </p:blipFill>
                    <p:spPr>
                      <a:xfrm>
                        <a:off x="3177000" y="91440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40" name="" descr=""/>
                      <p:cNvPicPr/>
                      <p:nvPr/>
                    </p:nvPicPr>
                    <p:blipFill>
                      <a:blip r:embed="rId56"/>
                      <a:stretch/>
                    </p:blipFill>
                    <p:spPr>
                      <a:xfrm>
                        <a:off x="3177000" y="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219760" y="3124080"/>
                  <a:ext cx="1933200" cy="3733920"/>
                  <a:chOff x="2219760" y="3124080"/>
                  <a:chExt cx="1933200" cy="3733920"/>
                </a:xfrm>
              </p:grpSpPr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2219760" y="4991040"/>
                    <a:ext cx="1933200" cy="1866960"/>
                    <a:chOff x="2219760" y="4991040"/>
                    <a:chExt cx="1933200" cy="1866960"/>
                  </a:xfrm>
                </p:grpSpPr>
                <p:pic>
                  <p:nvPicPr>
                    <p:cNvPr id="443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>
                      <a:off x="2219760" y="5905440"/>
                      <a:ext cx="97596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44" name=""/>
                    <p:cNvGrpSpPr/>
                    <p:nvPr/>
                  </p:nvGrpSpPr>
                  <p:grpSpPr>
                    <a:xfrm>
                      <a:off x="2219760" y="4991040"/>
                      <a:ext cx="1933200" cy="1866960"/>
                      <a:chOff x="2219760" y="4991040"/>
                      <a:chExt cx="1933200" cy="1866960"/>
                    </a:xfrm>
                  </p:grpSpPr>
                  <p:pic>
                    <p:nvPicPr>
                      <p:cNvPr id="445" name="" descr=""/>
                      <p:cNvPicPr/>
                      <p:nvPr/>
                    </p:nvPicPr>
                    <p:blipFill>
                      <a:blip r:embed="rId58"/>
                      <a:stretch/>
                    </p:blipFill>
                    <p:spPr>
                      <a:xfrm>
                        <a:off x="2219760" y="499104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46" name="" descr=""/>
                      <p:cNvPicPr/>
                      <p:nvPr/>
                    </p:nvPicPr>
                    <p:blipFill>
                      <a:blip r:embed="rId59"/>
                      <a:stretch/>
                    </p:blipFill>
                    <p:spPr>
                      <a:xfrm>
                        <a:off x="3177000" y="590544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47" name="" descr=""/>
                      <p:cNvPicPr/>
                      <p:nvPr/>
                    </p:nvPicPr>
                    <p:blipFill>
                      <a:blip r:embed="rId60"/>
                      <a:stretch/>
                    </p:blipFill>
                    <p:spPr>
                      <a:xfrm>
                        <a:off x="3177000" y="499104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2219760" y="3124080"/>
                    <a:ext cx="1933200" cy="1866960"/>
                    <a:chOff x="2219760" y="3124080"/>
                    <a:chExt cx="1933200" cy="1866960"/>
                  </a:xfrm>
                </p:grpSpPr>
                <p:pic>
                  <p:nvPicPr>
                    <p:cNvPr id="449" name="" descr=""/>
                    <p:cNvPicPr/>
                    <p:nvPr/>
                  </p:nvPicPr>
                  <p:blipFill>
                    <a:blip r:embed="rId61"/>
                    <a:stretch/>
                  </p:blipFill>
                  <p:spPr>
                    <a:xfrm>
                      <a:off x="2219760" y="4038480"/>
                      <a:ext cx="97596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50" name=""/>
                    <p:cNvGrpSpPr/>
                    <p:nvPr/>
                  </p:nvGrpSpPr>
                  <p:grpSpPr>
                    <a:xfrm>
                      <a:off x="2219760" y="3124080"/>
                      <a:ext cx="1933200" cy="1866960"/>
                      <a:chOff x="2219760" y="3124080"/>
                      <a:chExt cx="1933200" cy="1866960"/>
                    </a:xfrm>
                  </p:grpSpPr>
                  <p:pic>
                    <p:nvPicPr>
                      <p:cNvPr id="451" name="" descr=""/>
                      <p:cNvPicPr/>
                      <p:nvPr/>
                    </p:nvPicPr>
                    <p:blipFill>
                      <a:blip r:embed="rId62"/>
                      <a:stretch/>
                    </p:blipFill>
                    <p:spPr>
                      <a:xfrm>
                        <a:off x="2219760" y="312408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52" name="" descr=""/>
                      <p:cNvPicPr/>
                      <p:nvPr/>
                    </p:nvPicPr>
                    <p:blipFill>
                      <a:blip r:embed="rId63"/>
                      <a:stretch/>
                    </p:blipFill>
                    <p:spPr>
                      <a:xfrm>
                        <a:off x="3177000" y="403848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53" name="" descr=""/>
                      <p:cNvPicPr/>
                      <p:nvPr/>
                    </p:nvPicPr>
                    <p:blipFill>
                      <a:blip r:embed="rId64"/>
                      <a:stretch/>
                    </p:blipFill>
                    <p:spPr>
                      <a:xfrm>
                        <a:off x="3177000" y="3124080"/>
                        <a:ext cx="975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4134960" y="0"/>
                <a:ext cx="1932840" cy="6858000"/>
                <a:chOff x="4134960" y="0"/>
                <a:chExt cx="1932840" cy="685800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4134960" y="0"/>
                  <a:ext cx="1932840" cy="3733920"/>
                  <a:chOff x="4134960" y="0"/>
                  <a:chExt cx="1932840" cy="3733920"/>
                </a:xfrm>
              </p:grpSpPr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4134960" y="1866960"/>
                    <a:ext cx="1932840" cy="1866960"/>
                    <a:chOff x="4134960" y="1866960"/>
                    <a:chExt cx="1932840" cy="1866960"/>
                  </a:xfrm>
                </p:grpSpPr>
                <p:pic>
                  <p:nvPicPr>
                    <p:cNvPr id="457" name="" descr=""/>
                    <p:cNvPicPr/>
                    <p:nvPr/>
                  </p:nvPicPr>
                  <p:blipFill>
                    <a:blip r:embed="rId65"/>
                    <a:stretch/>
                  </p:blipFill>
                  <p:spPr>
                    <a:xfrm>
                      <a:off x="4134960" y="278136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58" name=""/>
                    <p:cNvGrpSpPr/>
                    <p:nvPr/>
                  </p:nvGrpSpPr>
                  <p:grpSpPr>
                    <a:xfrm>
                      <a:off x="4134960" y="1866960"/>
                      <a:ext cx="1932840" cy="1866960"/>
                      <a:chOff x="4134960" y="1866960"/>
                      <a:chExt cx="1932840" cy="1866960"/>
                    </a:xfrm>
                  </p:grpSpPr>
                  <p:pic>
                    <p:nvPicPr>
                      <p:cNvPr id="459" name="" descr=""/>
                      <p:cNvPicPr/>
                      <p:nvPr/>
                    </p:nvPicPr>
                    <p:blipFill>
                      <a:blip r:embed="rId66"/>
                      <a:stretch/>
                    </p:blipFill>
                    <p:spPr>
                      <a:xfrm>
                        <a:off x="4134960" y="186696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60" name="" descr=""/>
                      <p:cNvPicPr/>
                      <p:nvPr/>
                    </p:nvPicPr>
                    <p:blipFill>
                      <a:blip r:embed="rId67"/>
                      <a:stretch/>
                    </p:blipFill>
                    <p:spPr>
                      <a:xfrm>
                        <a:off x="5092200" y="278136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61" name="" descr=""/>
                      <p:cNvPicPr/>
                      <p:nvPr/>
                    </p:nvPicPr>
                    <p:blipFill>
                      <a:blip r:embed="rId68"/>
                      <a:stretch/>
                    </p:blipFill>
                    <p:spPr>
                      <a:xfrm>
                        <a:off x="5092200" y="186696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134960" y="0"/>
                    <a:ext cx="1932840" cy="1866960"/>
                    <a:chOff x="4134960" y="0"/>
                    <a:chExt cx="1932840" cy="1866960"/>
                  </a:xfrm>
                </p:grpSpPr>
                <p:pic>
                  <p:nvPicPr>
                    <p:cNvPr id="463" name="" descr=""/>
                    <p:cNvPicPr/>
                    <p:nvPr/>
                  </p:nvPicPr>
                  <p:blipFill>
                    <a:blip r:embed="rId69"/>
                    <a:stretch/>
                  </p:blipFill>
                  <p:spPr>
                    <a:xfrm>
                      <a:off x="4134960" y="91440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64" name=""/>
                    <p:cNvGrpSpPr/>
                    <p:nvPr/>
                  </p:nvGrpSpPr>
                  <p:grpSpPr>
                    <a:xfrm>
                      <a:off x="4134960" y="0"/>
                      <a:ext cx="1932840" cy="1866960"/>
                      <a:chOff x="4134960" y="0"/>
                      <a:chExt cx="1932840" cy="1866960"/>
                    </a:xfrm>
                  </p:grpSpPr>
                  <p:pic>
                    <p:nvPicPr>
                      <p:cNvPr id="465" name="" descr=""/>
                      <p:cNvPicPr/>
                      <p:nvPr/>
                    </p:nvPicPr>
                    <p:blipFill>
                      <a:blip r:embed="rId70"/>
                      <a:stretch/>
                    </p:blipFill>
                    <p:spPr>
                      <a:xfrm>
                        <a:off x="4134960" y="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66" name="" descr=""/>
                      <p:cNvPicPr/>
                      <p:nvPr/>
                    </p:nvPicPr>
                    <p:blipFill>
                      <a:blip r:embed="rId71"/>
                      <a:stretch/>
                    </p:blipFill>
                    <p:spPr>
                      <a:xfrm>
                        <a:off x="5092200" y="91440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67" name="" descr=""/>
                      <p:cNvPicPr/>
                      <p:nvPr/>
                    </p:nvPicPr>
                    <p:blipFill>
                      <a:blip r:embed="rId72"/>
                      <a:stretch/>
                    </p:blipFill>
                    <p:spPr>
                      <a:xfrm>
                        <a:off x="5092200" y="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4134960" y="3124080"/>
                  <a:ext cx="1932840" cy="3733920"/>
                  <a:chOff x="4134960" y="3124080"/>
                  <a:chExt cx="1932840" cy="3733920"/>
                </a:xfrm>
              </p:grpSpPr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4134960" y="4991040"/>
                    <a:ext cx="1932840" cy="1866960"/>
                    <a:chOff x="4134960" y="4991040"/>
                    <a:chExt cx="1932840" cy="1866960"/>
                  </a:xfrm>
                </p:grpSpPr>
                <p:pic>
                  <p:nvPicPr>
                    <p:cNvPr id="470" name="" descr=""/>
                    <p:cNvPicPr/>
                    <p:nvPr/>
                  </p:nvPicPr>
                  <p:blipFill>
                    <a:blip r:embed="rId73"/>
                    <a:stretch/>
                  </p:blipFill>
                  <p:spPr>
                    <a:xfrm>
                      <a:off x="4134960" y="590544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71" name=""/>
                    <p:cNvGrpSpPr/>
                    <p:nvPr/>
                  </p:nvGrpSpPr>
                  <p:grpSpPr>
                    <a:xfrm>
                      <a:off x="4134960" y="4991040"/>
                      <a:ext cx="1932840" cy="1866960"/>
                      <a:chOff x="4134960" y="4991040"/>
                      <a:chExt cx="1932840" cy="1866960"/>
                    </a:xfrm>
                  </p:grpSpPr>
                  <p:pic>
                    <p:nvPicPr>
                      <p:cNvPr id="472" name="" descr=""/>
                      <p:cNvPicPr/>
                      <p:nvPr/>
                    </p:nvPicPr>
                    <p:blipFill>
                      <a:blip r:embed="rId74"/>
                      <a:stretch/>
                    </p:blipFill>
                    <p:spPr>
                      <a:xfrm>
                        <a:off x="4134960" y="499104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75"/>
                      <a:stretch/>
                    </p:blipFill>
                    <p:spPr>
                      <a:xfrm>
                        <a:off x="5092200" y="590544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74" name="" descr=""/>
                      <p:cNvPicPr/>
                      <p:nvPr/>
                    </p:nvPicPr>
                    <p:blipFill>
                      <a:blip r:embed="rId76"/>
                      <a:stretch/>
                    </p:blipFill>
                    <p:spPr>
                      <a:xfrm>
                        <a:off x="5092200" y="499104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4134960" y="3124080"/>
                    <a:ext cx="1932840" cy="1866960"/>
                    <a:chOff x="4134960" y="3124080"/>
                    <a:chExt cx="1932840" cy="1866960"/>
                  </a:xfrm>
                </p:grpSpPr>
                <p:pic>
                  <p:nvPicPr>
                    <p:cNvPr id="476" name="" descr=""/>
                    <p:cNvPicPr/>
                    <p:nvPr/>
                  </p:nvPicPr>
                  <p:blipFill>
                    <a:blip r:embed="rId77"/>
                    <a:stretch/>
                  </p:blipFill>
                  <p:spPr>
                    <a:xfrm>
                      <a:off x="4134960" y="403848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77" name=""/>
                    <p:cNvGrpSpPr/>
                    <p:nvPr/>
                  </p:nvGrpSpPr>
                  <p:grpSpPr>
                    <a:xfrm>
                      <a:off x="4134960" y="3124080"/>
                      <a:ext cx="1932840" cy="1866960"/>
                      <a:chOff x="4134960" y="3124080"/>
                      <a:chExt cx="1932840" cy="1866960"/>
                    </a:xfrm>
                  </p:grpSpPr>
                  <p:pic>
                    <p:nvPicPr>
                      <p:cNvPr id="478" name="" descr=""/>
                      <p:cNvPicPr/>
                      <p:nvPr/>
                    </p:nvPicPr>
                    <p:blipFill>
                      <a:blip r:embed="rId78"/>
                      <a:stretch/>
                    </p:blipFill>
                    <p:spPr>
                      <a:xfrm>
                        <a:off x="4134960" y="312408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79" name="" descr=""/>
                      <p:cNvPicPr/>
                      <p:nvPr/>
                    </p:nvPicPr>
                    <p:blipFill>
                      <a:blip r:embed="rId79"/>
                      <a:stretch/>
                    </p:blipFill>
                    <p:spPr>
                      <a:xfrm>
                        <a:off x="5092200" y="403848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80" name="" descr=""/>
                      <p:cNvPicPr/>
                      <p:nvPr/>
                    </p:nvPicPr>
                    <p:blipFill>
                      <a:blip r:embed="rId80"/>
                      <a:stretch/>
                    </p:blipFill>
                    <p:spPr>
                      <a:xfrm>
                        <a:off x="5092200" y="312408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7210440" y="0"/>
                <a:ext cx="1932840" cy="6858000"/>
                <a:chOff x="7210440" y="0"/>
                <a:chExt cx="1932840" cy="685800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7210440" y="0"/>
                  <a:ext cx="1932840" cy="3733920"/>
                  <a:chOff x="7210440" y="0"/>
                  <a:chExt cx="1932840" cy="3733920"/>
                </a:xfrm>
              </p:grpSpPr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7210440" y="1866960"/>
                    <a:ext cx="1932840" cy="1866960"/>
                    <a:chOff x="7210440" y="1866960"/>
                    <a:chExt cx="1932840" cy="1866960"/>
                  </a:xfrm>
                </p:grpSpPr>
                <p:pic>
                  <p:nvPicPr>
                    <p:cNvPr id="484" name="" descr=""/>
                    <p:cNvPicPr/>
                    <p:nvPr/>
                  </p:nvPicPr>
                  <p:blipFill>
                    <a:blip r:embed="rId81"/>
                    <a:stretch/>
                  </p:blipFill>
                  <p:spPr>
                    <a:xfrm>
                      <a:off x="7210440" y="278136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85" name=""/>
                    <p:cNvGrpSpPr/>
                    <p:nvPr/>
                  </p:nvGrpSpPr>
                  <p:grpSpPr>
                    <a:xfrm>
                      <a:off x="7210440" y="1866960"/>
                      <a:ext cx="1932840" cy="1866960"/>
                      <a:chOff x="7210440" y="1866960"/>
                      <a:chExt cx="1932840" cy="1866960"/>
                    </a:xfrm>
                  </p:grpSpPr>
                  <p:pic>
                    <p:nvPicPr>
                      <p:cNvPr id="486" name="" descr=""/>
                      <p:cNvPicPr/>
                      <p:nvPr/>
                    </p:nvPicPr>
                    <p:blipFill>
                      <a:blip r:embed="rId82"/>
                      <a:stretch/>
                    </p:blipFill>
                    <p:spPr>
                      <a:xfrm>
                        <a:off x="7210440" y="186696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87" name="" descr=""/>
                      <p:cNvPicPr/>
                      <p:nvPr/>
                    </p:nvPicPr>
                    <p:blipFill>
                      <a:blip r:embed="rId83"/>
                      <a:stretch/>
                    </p:blipFill>
                    <p:spPr>
                      <a:xfrm>
                        <a:off x="8167680" y="278136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88" name="" descr=""/>
                      <p:cNvPicPr/>
                      <p:nvPr/>
                    </p:nvPicPr>
                    <p:blipFill>
                      <a:blip r:embed="rId84"/>
                      <a:stretch/>
                    </p:blipFill>
                    <p:spPr>
                      <a:xfrm>
                        <a:off x="8167680" y="186696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7210440" y="0"/>
                    <a:ext cx="1932840" cy="1866960"/>
                    <a:chOff x="7210440" y="0"/>
                    <a:chExt cx="1932840" cy="1866960"/>
                  </a:xfrm>
                </p:grpSpPr>
                <p:pic>
                  <p:nvPicPr>
                    <p:cNvPr id="490" name="" descr=""/>
                    <p:cNvPicPr/>
                    <p:nvPr/>
                  </p:nvPicPr>
                  <p:blipFill>
                    <a:blip r:embed="rId85"/>
                    <a:stretch/>
                  </p:blipFill>
                  <p:spPr>
                    <a:xfrm>
                      <a:off x="7210440" y="91440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91" name=""/>
                    <p:cNvGrpSpPr/>
                    <p:nvPr/>
                  </p:nvGrpSpPr>
                  <p:grpSpPr>
                    <a:xfrm>
                      <a:off x="7210440" y="0"/>
                      <a:ext cx="1932840" cy="1866960"/>
                      <a:chOff x="7210440" y="0"/>
                      <a:chExt cx="1932840" cy="1866960"/>
                    </a:xfrm>
                  </p:grpSpPr>
                  <p:pic>
                    <p:nvPicPr>
                      <p:cNvPr id="492" name="" descr=""/>
                      <p:cNvPicPr/>
                      <p:nvPr/>
                    </p:nvPicPr>
                    <p:blipFill>
                      <a:blip r:embed="rId86"/>
                      <a:stretch/>
                    </p:blipFill>
                    <p:spPr>
                      <a:xfrm>
                        <a:off x="7210440" y="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93" name="" descr=""/>
                      <p:cNvPicPr/>
                      <p:nvPr/>
                    </p:nvPicPr>
                    <p:blipFill>
                      <a:blip r:embed="rId87"/>
                      <a:stretch/>
                    </p:blipFill>
                    <p:spPr>
                      <a:xfrm>
                        <a:off x="8167680" y="91440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94" name="" descr=""/>
                      <p:cNvPicPr/>
                      <p:nvPr/>
                    </p:nvPicPr>
                    <p:blipFill>
                      <a:blip r:embed="rId88"/>
                      <a:stretch/>
                    </p:blipFill>
                    <p:spPr>
                      <a:xfrm>
                        <a:off x="8167680" y="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7210440" y="3124080"/>
                  <a:ext cx="1932840" cy="3733920"/>
                  <a:chOff x="7210440" y="3124080"/>
                  <a:chExt cx="1932840" cy="3733920"/>
                </a:xfrm>
              </p:grpSpPr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7210440" y="4991040"/>
                    <a:ext cx="1932840" cy="1866960"/>
                    <a:chOff x="7210440" y="4991040"/>
                    <a:chExt cx="1932840" cy="1866960"/>
                  </a:xfrm>
                </p:grpSpPr>
                <p:pic>
                  <p:nvPicPr>
                    <p:cNvPr id="497" name="" descr=""/>
                    <p:cNvPicPr/>
                    <p:nvPr/>
                  </p:nvPicPr>
                  <p:blipFill>
                    <a:blip r:embed="rId89"/>
                    <a:stretch/>
                  </p:blipFill>
                  <p:spPr>
                    <a:xfrm>
                      <a:off x="7210440" y="590544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98" name=""/>
                    <p:cNvGrpSpPr/>
                    <p:nvPr/>
                  </p:nvGrpSpPr>
                  <p:grpSpPr>
                    <a:xfrm>
                      <a:off x="7210440" y="4991040"/>
                      <a:ext cx="1932840" cy="1866960"/>
                      <a:chOff x="7210440" y="4991040"/>
                      <a:chExt cx="1932840" cy="1866960"/>
                    </a:xfrm>
                  </p:grpSpPr>
                  <p:pic>
                    <p:nvPicPr>
                      <p:cNvPr id="499" name="" descr=""/>
                      <p:cNvPicPr/>
                      <p:nvPr/>
                    </p:nvPicPr>
                    <p:blipFill>
                      <a:blip r:embed="rId90"/>
                      <a:stretch/>
                    </p:blipFill>
                    <p:spPr>
                      <a:xfrm>
                        <a:off x="7210440" y="499104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500" name="" descr=""/>
                      <p:cNvPicPr/>
                      <p:nvPr/>
                    </p:nvPicPr>
                    <p:blipFill>
                      <a:blip r:embed="rId91"/>
                      <a:stretch/>
                    </p:blipFill>
                    <p:spPr>
                      <a:xfrm>
                        <a:off x="8167680" y="590544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92"/>
                      <a:stretch/>
                    </p:blipFill>
                    <p:spPr>
                      <a:xfrm>
                        <a:off x="8167680" y="499104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7210440" y="3124080"/>
                    <a:ext cx="1932840" cy="1866960"/>
                    <a:chOff x="7210440" y="3124080"/>
                    <a:chExt cx="1932840" cy="1866960"/>
                  </a:xfrm>
                </p:grpSpPr>
                <p:pic>
                  <p:nvPicPr>
                    <p:cNvPr id="503" name="" descr=""/>
                    <p:cNvPicPr/>
                    <p:nvPr/>
                  </p:nvPicPr>
                  <p:blipFill>
                    <a:blip r:embed="rId93"/>
                    <a:stretch/>
                  </p:blipFill>
                  <p:spPr>
                    <a:xfrm>
                      <a:off x="7210440" y="4038480"/>
                      <a:ext cx="97560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504" name=""/>
                    <p:cNvGrpSpPr/>
                    <p:nvPr/>
                  </p:nvGrpSpPr>
                  <p:grpSpPr>
                    <a:xfrm>
                      <a:off x="7210440" y="3124080"/>
                      <a:ext cx="1932840" cy="1866960"/>
                      <a:chOff x="7210440" y="3124080"/>
                      <a:chExt cx="1932840" cy="1866960"/>
                    </a:xfrm>
                  </p:grpSpPr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94"/>
                      <a:stretch/>
                    </p:blipFill>
                    <p:spPr>
                      <a:xfrm>
                        <a:off x="7210440" y="312408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506" name="" descr=""/>
                      <p:cNvPicPr/>
                      <p:nvPr/>
                    </p:nvPicPr>
                    <p:blipFill>
                      <a:blip r:embed="rId95"/>
                      <a:stretch/>
                    </p:blipFill>
                    <p:spPr>
                      <a:xfrm>
                        <a:off x="8167680" y="403848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507" name="" descr=""/>
                      <p:cNvPicPr/>
                      <p:nvPr/>
                    </p:nvPicPr>
                    <p:blipFill>
                      <a:blip r:embed="rId96"/>
                      <a:stretch/>
                    </p:blipFill>
                    <p:spPr>
                      <a:xfrm>
                        <a:off x="8167680" y="3124080"/>
                        <a:ext cx="97560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</p:grpSp>
      </p:grpSp>
      <p:sp>
        <p:nvSpPr>
          <p:cNvPr id="508" name=""/>
          <p:cNvSpPr/>
          <p:nvPr/>
        </p:nvSpPr>
        <p:spPr>
          <a:xfrm>
            <a:off x="1447920" y="7621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2057400"/>
            <a:ext cx="784872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口语色彩浓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平淡有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古汉语的点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朴素典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运用语言造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动感传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514600" y="5335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  <a:ea typeface="华文彩云"/>
              </a:rPr>
              <a:t>语言艺术风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7"/>
          <a:stretch/>
        </p:blipFill>
        <p:spPr>
          <a:xfrm>
            <a:off x="304920" y="533520"/>
            <a:ext cx="1904760" cy="12952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209680" y="5638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48769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请你从文中各找出几例加以分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"/>
          <p:cNvPicPr/>
          <p:nvPr/>
        </p:nvPicPr>
        <p:blipFill>
          <a:blip r:embed="rId2"/>
          <a:stretch/>
        </p:blipFill>
        <p:spPr>
          <a:xfrm>
            <a:off x="6553080" y="5094360"/>
            <a:ext cx="2590920" cy="17636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65040" y="182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137160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以“我喜欢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----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，因为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-----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。”为句式表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790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品味语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352680" y="762120"/>
            <a:ext cx="3200400" cy="761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示   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21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午一早，鸭蛋煮熟了，由孩子自己去挑一个，鸭蛋有什么可挑的呢？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要挑淡青壳的。鸭蛋壳有白的和淡青的两种。二要挑形状好看的。别说鸭蛋都是一样的，细看却不同。有的样子蠢，有的秀气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8164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个普普通通的鸭蛋，在作者笔下居然写得如此别具一格。可见生活中的情趣是无处不在的。语言虽平淡，而细品之下确实有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2280" y="4572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685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口语色彩浓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914400" y="685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 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在北京吃的咸鸭蛋，蛋黄是浅黄色的，这叫什么咸鸭蛋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219320" y="2438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朴素的大白话信口而出，朴实自然，让人倍感亲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727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72428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3429000" cy="2165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066680"/>
            <a:ext cx="3124080" cy="2264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380880" y="4495680"/>
            <a:ext cx="3429000" cy="2210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2438280"/>
            <a:ext cx="5105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华文彩云"/>
                <a:ea typeface="华文彩云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华文彩云"/>
                <a:ea typeface="华文彩云"/>
              </a:rPr>
              <a:t>香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除外形活泼多样之外，也有趋吉避凶的含意。 这一天，家家户户门口都挂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艾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蒲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小孩子身上挂着「艾虎」的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香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男人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喝雄黄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传说有避邪、求吉祥的作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743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Verdana"/>
                <a:ea typeface="方正舒体"/>
              </a:rPr>
              <a:t>端午风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89840" y="3505320"/>
            <a:ext cx="200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端午节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包粽子、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鸭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洋溢着中国传统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的特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4343400" y="4495680"/>
            <a:ext cx="274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352680" y="228600"/>
            <a:ext cx="3200400" cy="762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示   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10666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不过高邮的咸鸭蛋，确实是好，我走过的地方不少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食鸭蛋多矣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，但和我家乡的完全不能相比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曾经沧海难为水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，他乡咸鸭蛋，我实在瞧不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3048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典雅的文言词语、诗句与极质朴的口语相映成趣，雅俗共赏，又幽默风趣。可以看出作者驾驭语言文字娴熟的技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3808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30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古汉语的点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105520" y="4405320"/>
            <a:ext cx="40384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筷子头一扎下去，吱——红油就冒出来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971800"/>
            <a:ext cx="7856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绘声绘色，动感十足，活灵活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8120" y="533520"/>
            <a:ext cx="3200400" cy="761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示   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60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运用语言造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2130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1295280" y="1905120"/>
            <a:ext cx="6553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平淡自然也“美文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9040" y="583920"/>
            <a:ext cx="48211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  <a:ea typeface="华文彩云"/>
              </a:rPr>
              <a:t>总结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79520" y="1846440"/>
            <a:ext cx="817704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《端午的鸭蛋》告诉我们：日常生活富含生活情趣、人生意味。生活中并不总是惊涛骇浪，也未必处处正襟危坐。只有充分感受生活中的种种快乐、悲苦、平淡以及诗意，我们才算真实的体验到生活的滋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3048120" cy="2290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57200" y="260280"/>
            <a:ext cx="8280360" cy="633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62280" y="4027320"/>
            <a:ext cx="60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汪曾祺深受中国传统文化和儒家思想影响，他的散文刻画民俗、民风，形象、生动，蕴涵着对民族文化传统的深切情感。他提出“风俗是一个民族集体创作的生活抒情诗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857920" y="260280"/>
            <a:ext cx="2881440" cy="19209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457200" y="3860640"/>
            <a:ext cx="2027160" cy="273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457200" y="476280"/>
            <a:ext cx="5184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汪曾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江苏高邮人，作家。代表作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《受戒》、《大淖记事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小说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《蒲桥集》、《塔上随笔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散文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2349360"/>
            <a:ext cx="8353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的行文如同随意聊天，于自然而然中写出生活的妙处和自己独特的感受。文风闲适自由，不事雕饰，不刻意追求结构的严谨，但在随意中体现了整体的严谨与和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123720" y="685440"/>
            <a:ext cx="2530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拓展延伸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359000" y="1914480"/>
            <a:ext cx="672768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汪曾祺笔下小小的鸭蛋能品味出生活的情趣，在我们的生活中一个小小的物品，或一件小事也能体现出真趣或真情，那么让我们一起分享你的真趣或真情吧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352880" y="838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19280" y="1197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700360" cy="22827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3780000" y="155736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635280" y="141300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2808360" cy="21607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804000" y="1268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5938920" y="620640"/>
            <a:ext cx="3205080" cy="25383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826920" y="450864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762120" y="4038480"/>
            <a:ext cx="2987640" cy="18399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877080" y="4724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5334120" y="3886200"/>
            <a:ext cx="2555640" cy="20829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11280" y="3284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一杯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7640" y="342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枚书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片枫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95280" y="6021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本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236000" y="602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象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72000"/>
            <a:ext cx="2819520" cy="2030400"/>
          </a:xfrm>
          <a:prstGeom prst="rect">
            <a:avLst/>
          </a:prstGeom>
          <a:ln w="0">
            <a:noFill/>
          </a:ln>
        </p:spPr>
      </p:pic>
      <p:pic>
        <p:nvPicPr>
          <p:cNvPr id="255" name="gyzf48" descr=""/>
          <p:cNvPicPr/>
          <p:nvPr/>
        </p:nvPicPr>
        <p:blipFill>
          <a:blip r:embed="rId3"/>
          <a:stretch/>
        </p:blipFill>
        <p:spPr>
          <a:xfrm>
            <a:off x="0" y="0"/>
            <a:ext cx="2800440" cy="28195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3886200" y="2286000"/>
            <a:ext cx="1344600" cy="1106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6629400" y="2286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380880" y="3048120"/>
            <a:ext cx="2514600" cy="1657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3200400" y="228600"/>
            <a:ext cx="2743200" cy="18590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2600280" cy="352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2286000" cy="1646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3429000" y="5181480"/>
            <a:ext cx="403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鸭蛋也艺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828800" y="228600"/>
            <a:ext cx="40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端午的鸭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5" name=""/>
          <p:cNvSpPr/>
          <p:nvPr/>
        </p:nvSpPr>
        <p:spPr>
          <a:xfrm>
            <a:off x="5940360" y="1773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010280" y="14479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汪曾祺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629400" y="2590920"/>
            <a:ext cx="1890720" cy="2643120"/>
          </a:xfrm>
          <a:prstGeom prst="rect">
            <a:avLst/>
          </a:prstGeom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读读写写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3716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鸭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438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464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起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429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14479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47242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萤映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24382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81280" y="3505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72200" y="47242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1447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24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1371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y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2514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m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x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s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144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2438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zò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3505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k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n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43800" y="1447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y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0120" y="2438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x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xi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43800" y="4800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hu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286000" y="457200"/>
            <a:ext cx="42670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美食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886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作者向我们介绍家乡端午节的哪些习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系百索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做香角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贴五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贴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喝雄黄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放黄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吃“十二红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55640" y="80964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黑体"/>
              </a:rPr>
              <a:t>本文可分成几部分，怎样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133720"/>
            <a:ext cx="67816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说端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家乡端午的种种习俗（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3276720"/>
            <a:ext cx="6858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说鸭蛋，写家乡鸭蛋的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名声、特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-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4495680"/>
            <a:ext cx="76197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正式涉及正题——“端午的鸭蛋”，着重写了“鸭蛋络子”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（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６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5867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端午风俗——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</a:rPr>
              <a:t>家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鸭蛋——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</a:rPr>
              <a:t>端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鸭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3360" y="0"/>
            <a:ext cx="901548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09400" y="228600"/>
            <a:ext cx="546480" cy="4597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990720"/>
            <a:ext cx="213336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系百索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做香角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贴五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贴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喝雄黄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放黄烟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吃“十二红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7880" y="1385280"/>
            <a:ext cx="667800" cy="28681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仿宋_GB2312"/>
              </a:rPr>
              <a:t>端午的风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1066680"/>
            <a:ext cx="381240" cy="3276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3581280" y="2590920"/>
            <a:ext cx="381240" cy="16761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75480" y="1385280"/>
            <a:ext cx="667800" cy="28681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仿宋_GB2312"/>
              </a:rPr>
              <a:t>家乡的鸭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24280" y="2819520"/>
            <a:ext cx="38124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71120" y="1385280"/>
            <a:ext cx="667800" cy="28681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仿宋_GB2312"/>
              </a:rPr>
              <a:t>端午的鸭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95880" y="457200"/>
            <a:ext cx="228600" cy="4343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21760" y="380880"/>
            <a:ext cx="8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挂“鸭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络子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21760" y="2286000"/>
            <a:ext cx="8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敲破“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头”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091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鸭蛋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装萤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14440" y="1676520"/>
            <a:ext cx="91188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囊萤映雪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467480" y="3276720"/>
            <a:ext cx="533520" cy="1371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09-02-28T14:49:4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